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7.png" ContentType="image/png"/>
  <Override PartName="/ppt/media/image4.gif" ContentType="image/gif"/>
  <Override PartName="/ppt/media/image18.png" ContentType="image/png"/>
  <Override PartName="/ppt/media/image17.gif" ContentType="image/gif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16.png" ContentType="image/png"/>
  <Override PartName="/ppt/media/chimes.wav" ContentType="audio/x-wav"/>
  <Override PartName="/ppt/media/image6.jpeg" ContentType="image/jpeg"/>
  <Override PartName="/ppt/media/image1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7A6-FDF0-4B7D-974D-AB6781BD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68B3-52C5-4294-BA63-C470B25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BCD-4B4D-4798-8B3A-A6246DA8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1B4-A058-4719-869D-D460DBC4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8AE-E2E1-4CD6-8EF5-7C19ADD4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0CB-31C0-47AF-A977-08E00BE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C0FB-EFAE-4B4B-B8BF-D620C508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45A3-1FFE-4BBB-AECD-DEFBCF5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EA92-3EEE-4BD1-B1AF-56A0B12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C47-4872-4A29-9A65-A2C5B435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AF81-8C6A-440D-B337-A4429414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7888-95E7-4DEA-9143-70FD2C6D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0047-29E3-402D-A33E-E2511C4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2F35-8D7B-4FE7-8E99-AAA65C2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2DFA-AAFA-4517-8054-58D61885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312C-AE15-4BCF-B7E5-8278BF66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AB5-BCAB-4F95-A2F6-3FFA500F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2DC6-C230-44F1-9B79-784B6618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E063-D735-4D38-A02E-179CE03A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B404-D1FA-4F19-AC03-96EA951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592-B432-4022-AAB7-762A83A9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2B6-FFDE-4B8B-8D33-C9B57668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D89-520F-46CC-A1A9-1F864FD8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7A1-166C-4D67-B699-6743FE1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9870-76D5-4BEC-984D-BB1E0263A5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a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49280" indent="-2192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82560" indent="-2318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15840" indent="-23148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912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65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6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a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3200400"/>
            <a:ext cx="9144000" cy="914400"/>
          </a:xfrm>
          <a:prstGeom prst="rect">
            <a:avLst/>
          </a:prstGeom>
          <a:solidFill>
            <a:srgbClr val="013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3200400"/>
            <a:ext cx="9144000" cy="360"/>
            <a:chOff x="0" y="3200400"/>
            <a:chExt cx="9144000" cy="360"/>
          </a:xfrm>
        </p:grpSpPr>
        <p:sp>
          <p:nvSpPr>
            <p:cNvPr id="83" name="Line 7"/>
            <p:cNvSpPr/>
            <p:nvPr/>
          </p:nvSpPr>
          <p:spPr>
            <a:xfrm>
              <a:off x="0" y="3200400"/>
              <a:ext cx="9144000" cy="0"/>
            </a:xfrm>
            <a:prstGeom prst="line">
              <a:avLst/>
            </a:prstGeom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0" y="3200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8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13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L_Logo_RGB_PNG"/>
          <p:cNvPicPr/>
          <p:nvPr/>
        </p:nvPicPr>
        <p:blipFill>
          <a:blip r:embed="rId3"/>
          <a:stretch/>
        </p:blipFill>
        <p:spPr>
          <a:xfrm>
            <a:off x="6013440" y="5002200"/>
            <a:ext cx="2697120" cy="1179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12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65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65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49280" indent="-2192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82560" indent="-2318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15840" indent="-23148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ac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2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658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65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49280" indent="-2192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82560" indent="-23184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15840" indent="-231480">
              <a:lnSpc>
                <a:spcPts val="2200"/>
              </a:lnSpc>
              <a:spcBef>
                <a:spcPts val="2001"/>
              </a:spcBef>
              <a:buClr>
                <a:srgbClr val="0089c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915840" indent="-231480">
              <a:lnSpc>
                <a:spcPts val="22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D8CA-98C8-4AE2-94F1-E2638362F8C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7023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24000" y="549360"/>
            <a:ext cx="84643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cc"/>
                </a:solidFill>
                <a:latin typeface="Comic Sans MS"/>
                <a:ea typeface="宋体"/>
              </a:rPr>
              <a:t>Unit 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Is there a post office near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cc"/>
                </a:solidFill>
                <a:latin typeface="Comic Sans MS"/>
                <a:ea typeface="宋体"/>
              </a:rPr>
              <a:t>Period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C:\Documents and Settings\teacher\桌面\魏静\Zw_005.gif"/>
          <p:cNvPicPr/>
          <p:nvPr/>
        </p:nvPicPr>
        <p:blipFill>
          <a:blip r:embed="rId2"/>
          <a:stretch/>
        </p:blipFill>
        <p:spPr>
          <a:xfrm>
            <a:off x="8153280" y="5200560"/>
            <a:ext cx="7891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9635" descr="bird12"/>
          <p:cNvPicPr/>
          <p:nvPr/>
        </p:nvPicPr>
        <p:blipFill>
          <a:blip r:embed="rId3"/>
          <a:stretch/>
        </p:blipFill>
        <p:spPr>
          <a:xfrm>
            <a:off x="6877080" y="404640"/>
            <a:ext cx="1270080" cy="10749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" descr="bird12"/>
          <p:cNvPicPr/>
          <p:nvPr/>
        </p:nvPicPr>
        <p:blipFill>
          <a:blip r:embed="rId4"/>
          <a:stretch/>
        </p:blipFill>
        <p:spPr>
          <a:xfrm>
            <a:off x="7550280" y="277920"/>
            <a:ext cx="1369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76320" y="5715000"/>
            <a:ext cx="927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 along Bridge Street and turn right at the second cro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02920" y="1684440"/>
            <a:ext cx="2521440" cy="17280"/>
            <a:chOff x="1402920" y="1684440"/>
            <a:chExt cx="2521440" cy="17280"/>
          </a:xfrm>
        </p:grpSpPr>
        <p:sp>
          <p:nvSpPr>
            <p:cNvPr id="291" name="Line 4"/>
            <p:cNvSpPr/>
            <p:nvPr/>
          </p:nvSpPr>
          <p:spPr>
            <a:xfrm flipH="1">
              <a:off x="1402920" y="1684440"/>
              <a:ext cx="2521080" cy="1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403280" y="1684440"/>
              <a:ext cx="2521080" cy="1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403280" y="3860280"/>
            <a:ext cx="2581200" cy="19080"/>
            <a:chOff x="1403280" y="3860280"/>
            <a:chExt cx="2581200" cy="19080"/>
          </a:xfrm>
        </p:grpSpPr>
        <p:sp>
          <p:nvSpPr>
            <p:cNvPr id="294" name="Line 5"/>
            <p:cNvSpPr/>
            <p:nvPr/>
          </p:nvSpPr>
          <p:spPr>
            <a:xfrm flipH="1" flipV="1">
              <a:off x="1403280" y="3860280"/>
              <a:ext cx="2581200" cy="19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 rot="10800000">
              <a:off x="1403280" y="3860280"/>
              <a:ext cx="2581200" cy="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utoShape 7"/>
          <p:cNvSpPr/>
          <p:nvPr/>
        </p:nvSpPr>
        <p:spPr>
          <a:xfrm rot="5400000">
            <a:off x="2739240" y="2289600"/>
            <a:ext cx="504720" cy="2325600"/>
          </a:xfrm>
          <a:prstGeom prst="upArrow">
            <a:avLst>
              <a:gd name="adj1" fmla="val 50000"/>
              <a:gd name="adj2" fmla="val 570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288880" y="2438280"/>
            <a:ext cx="44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Bridge          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886200" y="457200"/>
            <a:ext cx="360" cy="1224000"/>
            <a:chOff x="3886200" y="457200"/>
            <a:chExt cx="360" cy="1224000"/>
          </a:xfrm>
        </p:grpSpPr>
        <p:sp>
          <p:nvSpPr>
            <p:cNvPr id="299" name="Line 12"/>
            <p:cNvSpPr/>
            <p:nvPr/>
          </p:nvSpPr>
          <p:spPr>
            <a:xfrm>
              <a:off x="3886200" y="4572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886200" y="4572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62520" y="3886200"/>
            <a:ext cx="23760" cy="1371600"/>
            <a:chOff x="3962520" y="3886200"/>
            <a:chExt cx="23760" cy="1371600"/>
          </a:xfrm>
        </p:grpSpPr>
        <p:sp>
          <p:nvSpPr>
            <p:cNvPr id="302" name="Line 13"/>
            <p:cNvSpPr/>
            <p:nvPr/>
          </p:nvSpPr>
          <p:spPr>
            <a:xfrm flipH="1">
              <a:off x="3962520" y="3886200"/>
              <a:ext cx="23760" cy="1371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3962520" y="3886200"/>
              <a:ext cx="237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876920" y="380880"/>
            <a:ext cx="360" cy="1295640"/>
            <a:chOff x="4876920" y="380880"/>
            <a:chExt cx="360" cy="1295640"/>
          </a:xfrm>
        </p:grpSpPr>
        <p:sp>
          <p:nvSpPr>
            <p:cNvPr id="305" name="Line 14"/>
            <p:cNvSpPr/>
            <p:nvPr/>
          </p:nvSpPr>
          <p:spPr>
            <a:xfrm>
              <a:off x="4876920" y="380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876920" y="380880"/>
              <a:ext cx="3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952880" y="1676160"/>
            <a:ext cx="1152720" cy="360"/>
            <a:chOff x="4952880" y="1676160"/>
            <a:chExt cx="1152720" cy="360"/>
          </a:xfrm>
        </p:grpSpPr>
        <p:sp>
          <p:nvSpPr>
            <p:cNvPr id="308" name="Line 15"/>
            <p:cNvSpPr/>
            <p:nvPr/>
          </p:nvSpPr>
          <p:spPr>
            <a:xfrm>
              <a:off x="4952880" y="16765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 rot="10800000">
              <a:off x="4952880" y="167616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952880" y="3886200"/>
            <a:ext cx="14400" cy="1376280"/>
            <a:chOff x="4952880" y="3886200"/>
            <a:chExt cx="14400" cy="1376280"/>
          </a:xfrm>
        </p:grpSpPr>
        <p:sp>
          <p:nvSpPr>
            <p:cNvPr id="311" name="Line 16"/>
            <p:cNvSpPr/>
            <p:nvPr/>
          </p:nvSpPr>
          <p:spPr>
            <a:xfrm flipH="1">
              <a:off x="4952880" y="3886200"/>
              <a:ext cx="14400" cy="1376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952880" y="3886200"/>
              <a:ext cx="14400" cy="137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029200" y="3886200"/>
            <a:ext cx="1116000" cy="360"/>
            <a:chOff x="5029200" y="3886200"/>
            <a:chExt cx="1116000" cy="360"/>
          </a:xfrm>
        </p:grpSpPr>
        <p:sp>
          <p:nvSpPr>
            <p:cNvPr id="314" name="Line 17"/>
            <p:cNvSpPr/>
            <p:nvPr/>
          </p:nvSpPr>
          <p:spPr>
            <a:xfrm>
              <a:off x="5029200" y="3886200"/>
              <a:ext cx="11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29200" y="3886200"/>
              <a:ext cx="11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19"/>
          <p:cNvSpPr/>
          <p:nvPr/>
        </p:nvSpPr>
        <p:spPr>
          <a:xfrm>
            <a:off x="228600" y="5181480"/>
            <a:ext cx="52912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at the second cro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0"/>
          <p:cNvSpPr/>
          <p:nvPr/>
        </p:nvSpPr>
        <p:spPr>
          <a:xfrm rot="5400000">
            <a:off x="5759640" y="2960640"/>
            <a:ext cx="151272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18"/>
          <p:cNvSpPr txBox="1"/>
          <p:nvPr/>
        </p:nvSpPr>
        <p:spPr>
          <a:xfrm rot="5400000">
            <a:off x="2093400" y="2554200"/>
            <a:ext cx="4680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_____  _____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Picture 22" descr="C:\Users\ysoh\AppData\Local\Microsoft\Windows\Temporary Internet Files\Content.IE5\W8IWHFR0\MP900442243[1].jpg"/>
          <p:cNvPicPr/>
          <p:nvPr/>
        </p:nvPicPr>
        <p:blipFill>
          <a:blip r:embed="rId1"/>
          <a:stretch/>
        </p:blipFill>
        <p:spPr>
          <a:xfrm>
            <a:off x="127080" y="1741320"/>
            <a:ext cx="1396800" cy="2095560"/>
          </a:xfrm>
          <a:prstGeom prst="rect">
            <a:avLst/>
          </a:prstGeom>
          <a:ln w="0">
            <a:noFill/>
          </a:ln>
        </p:spPr>
      </p:pic>
      <p:sp>
        <p:nvSpPr>
          <p:cNvPr id="320" name="椭圆 27"/>
          <p:cNvSpPr/>
          <p:nvPr/>
        </p:nvSpPr>
        <p:spPr>
          <a:xfrm>
            <a:off x="3429000" y="1447920"/>
            <a:ext cx="2030400" cy="2828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153360" y="533520"/>
            <a:ext cx="44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at the first cro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4640" y="2819520"/>
            <a:ext cx="3718080" cy="2528640"/>
            <a:chOff x="2744640" y="2819520"/>
            <a:chExt cx="3718080" cy="2528640"/>
          </a:xfrm>
        </p:grpSpPr>
        <p:sp>
          <p:nvSpPr>
            <p:cNvPr id="323" name="Line 21"/>
            <p:cNvSpPr/>
            <p:nvPr/>
          </p:nvSpPr>
          <p:spPr>
            <a:xfrm flipH="1">
              <a:off x="2744640" y="2819520"/>
              <a:ext cx="3718080" cy="252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744640" y="2819520"/>
              <a:ext cx="3718080" cy="2528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72200" y="3886200"/>
            <a:ext cx="360" cy="1584360"/>
            <a:chOff x="6172200" y="3886200"/>
            <a:chExt cx="360" cy="1584360"/>
          </a:xfrm>
        </p:grpSpPr>
        <p:sp>
          <p:nvSpPr>
            <p:cNvPr id="326" name="Line 13"/>
            <p:cNvSpPr/>
            <p:nvPr/>
          </p:nvSpPr>
          <p:spPr>
            <a:xfrm>
              <a:off x="6172200" y="388620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6172200" y="388620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095880" y="457200"/>
            <a:ext cx="360" cy="1224000"/>
            <a:chOff x="6095880" y="457200"/>
            <a:chExt cx="360" cy="1224000"/>
          </a:xfrm>
        </p:grpSpPr>
        <p:sp>
          <p:nvSpPr>
            <p:cNvPr id="329" name="Line 12"/>
            <p:cNvSpPr/>
            <p:nvPr/>
          </p:nvSpPr>
          <p:spPr>
            <a:xfrm>
              <a:off x="6095880" y="4572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95880" y="45720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WordArt 18"/>
          <p:cNvSpPr txBox="1"/>
          <p:nvPr/>
        </p:nvSpPr>
        <p:spPr>
          <a:xfrm rot="5400000">
            <a:off x="4303440" y="2478240"/>
            <a:ext cx="4680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_____  _____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62920" y="3886200"/>
            <a:ext cx="360" cy="1512720"/>
            <a:chOff x="7162920" y="3886200"/>
            <a:chExt cx="360" cy="1512720"/>
          </a:xfrm>
        </p:grpSpPr>
        <p:sp>
          <p:nvSpPr>
            <p:cNvPr id="333" name="Line 16"/>
            <p:cNvSpPr/>
            <p:nvPr/>
          </p:nvSpPr>
          <p:spPr>
            <a:xfrm>
              <a:off x="7162920" y="38862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7162920" y="3886200"/>
              <a:ext cx="36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86600" y="457200"/>
            <a:ext cx="360" cy="1295280"/>
            <a:chOff x="7086600" y="457200"/>
            <a:chExt cx="360" cy="1295280"/>
          </a:xfrm>
        </p:grpSpPr>
        <p:sp>
          <p:nvSpPr>
            <p:cNvPr id="336" name="Line 14"/>
            <p:cNvSpPr/>
            <p:nvPr/>
          </p:nvSpPr>
          <p:spPr>
            <a:xfrm>
              <a:off x="7086600" y="4572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086600" y="45720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086240" y="1676160"/>
            <a:ext cx="1152720" cy="360"/>
            <a:chOff x="7086240" y="1676160"/>
            <a:chExt cx="1152720" cy="360"/>
          </a:xfrm>
        </p:grpSpPr>
        <p:sp>
          <p:nvSpPr>
            <p:cNvPr id="339" name="Line 15"/>
            <p:cNvSpPr/>
            <p:nvPr/>
          </p:nvSpPr>
          <p:spPr>
            <a:xfrm>
              <a:off x="7086600" y="16765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 rot="10800000">
              <a:off x="7086240" y="1676160"/>
              <a:ext cx="115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62920" y="3886200"/>
            <a:ext cx="1116000" cy="360"/>
            <a:chOff x="7162920" y="3886200"/>
            <a:chExt cx="1116000" cy="360"/>
          </a:xfrm>
        </p:grpSpPr>
        <p:sp>
          <p:nvSpPr>
            <p:cNvPr id="342" name="Line 17"/>
            <p:cNvSpPr/>
            <p:nvPr/>
          </p:nvSpPr>
          <p:spPr>
            <a:xfrm>
              <a:off x="7162920" y="3886200"/>
              <a:ext cx="11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7162920" y="3886200"/>
              <a:ext cx="11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椭圆 27"/>
          <p:cNvSpPr/>
          <p:nvPr/>
        </p:nvSpPr>
        <p:spPr>
          <a:xfrm>
            <a:off x="5715000" y="1295280"/>
            <a:ext cx="2030400" cy="28288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  <a:effectLst>
            <a:outerShdw dist="153753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451240" y="1263600"/>
            <a:ext cx="1766880" cy="1635120"/>
            <a:chOff x="2451240" y="1263600"/>
            <a:chExt cx="1766880" cy="1635120"/>
          </a:xfrm>
        </p:grpSpPr>
        <p:sp>
          <p:nvSpPr>
            <p:cNvPr id="346" name="Line 21"/>
            <p:cNvSpPr/>
            <p:nvPr/>
          </p:nvSpPr>
          <p:spPr>
            <a:xfrm flipH="1" flipV="1">
              <a:off x="2451240" y="1263600"/>
              <a:ext cx="1766880" cy="163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 rot="10800000">
              <a:off x="2451240" y="1263600"/>
              <a:ext cx="1766880" cy="163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114689"/>
          <p:cNvSpPr/>
          <p:nvPr/>
        </p:nvSpPr>
        <p:spPr>
          <a:xfrm rot="16200000">
            <a:off x="2361960" y="297180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14690"/>
          <p:cNvSpPr/>
          <p:nvPr/>
        </p:nvSpPr>
        <p:spPr>
          <a:xfrm>
            <a:off x="990720" y="2666880"/>
            <a:ext cx="1523880" cy="7621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14691"/>
          <p:cNvSpPr/>
          <p:nvPr/>
        </p:nvSpPr>
        <p:spPr>
          <a:xfrm>
            <a:off x="4495680" y="2666880"/>
            <a:ext cx="129564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14692"/>
          <p:cNvSpPr/>
          <p:nvPr/>
        </p:nvSpPr>
        <p:spPr>
          <a:xfrm>
            <a:off x="4800600" y="0"/>
            <a:ext cx="990720" cy="1219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14693"/>
          <p:cNvSpPr/>
          <p:nvPr/>
        </p:nvSpPr>
        <p:spPr>
          <a:xfrm rot="16200000">
            <a:off x="6172200" y="152280"/>
            <a:ext cx="38088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14694"/>
          <p:cNvSpPr/>
          <p:nvPr/>
        </p:nvSpPr>
        <p:spPr>
          <a:xfrm>
            <a:off x="6477120" y="0"/>
            <a:ext cx="1447560" cy="609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114695"/>
          <p:cNvGrpSpPr/>
          <p:nvPr/>
        </p:nvGrpSpPr>
        <p:grpSpPr>
          <a:xfrm>
            <a:off x="7772400" y="1295280"/>
            <a:ext cx="1371240" cy="685800"/>
            <a:chOff x="7772400" y="1295280"/>
            <a:chExt cx="1371240" cy="685800"/>
          </a:xfrm>
        </p:grpSpPr>
        <p:grpSp>
          <p:nvGrpSpPr>
            <p:cNvPr id="355" name="组合 114696"/>
            <p:cNvGrpSpPr/>
            <p:nvPr/>
          </p:nvGrpSpPr>
          <p:grpSpPr>
            <a:xfrm>
              <a:off x="7772400" y="1295280"/>
              <a:ext cx="1371240" cy="533880"/>
              <a:chOff x="7772400" y="1295280"/>
              <a:chExt cx="1371240" cy="533880"/>
            </a:xfrm>
          </p:grpSpPr>
          <p:sp>
            <p:nvSpPr>
              <p:cNvPr id="356" name="矩形 114697"/>
              <p:cNvSpPr/>
              <p:nvPr/>
            </p:nvSpPr>
            <p:spPr>
              <a:xfrm>
                <a:off x="7772400" y="1295280"/>
                <a:ext cx="1370880" cy="533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7772400" y="1295280"/>
                <a:ext cx="360" cy="533520"/>
                <a:chOff x="7772400" y="1295280"/>
                <a:chExt cx="360" cy="533520"/>
              </a:xfrm>
            </p:grpSpPr>
            <p:sp>
              <p:nvSpPr>
                <p:cNvPr id="358" name="直接连接符 114698"/>
                <p:cNvSpPr/>
                <p:nvPr/>
              </p:nvSpPr>
              <p:spPr>
                <a:xfrm>
                  <a:off x="7772400" y="1295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7772400" y="129528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772400" y="1295280"/>
                <a:ext cx="1370880" cy="360"/>
                <a:chOff x="7772400" y="1295280"/>
                <a:chExt cx="1370880" cy="360"/>
              </a:xfrm>
            </p:grpSpPr>
            <p:sp>
              <p:nvSpPr>
                <p:cNvPr id="361" name="直接连接符 114699"/>
                <p:cNvSpPr/>
                <p:nvPr/>
              </p:nvSpPr>
              <p:spPr>
                <a:xfrm>
                  <a:off x="7772400" y="1295280"/>
                  <a:ext cx="137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>
                  <a:off x="7772400" y="1295280"/>
                  <a:ext cx="137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772400" y="1828800"/>
                <a:ext cx="483840" cy="360"/>
                <a:chOff x="7772400" y="1828800"/>
                <a:chExt cx="483840" cy="360"/>
              </a:xfrm>
            </p:grpSpPr>
            <p:sp>
              <p:nvSpPr>
                <p:cNvPr id="364" name="直接连接符 114700"/>
                <p:cNvSpPr/>
                <p:nvPr/>
              </p:nvSpPr>
              <p:spPr>
                <a:xfrm>
                  <a:off x="7772400" y="1828800"/>
                  <a:ext cx="48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 txBox="1"/>
                <p:nvPr/>
              </p:nvSpPr>
              <p:spPr>
                <a:xfrm>
                  <a:off x="7772400" y="1828800"/>
                  <a:ext cx="483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8740080" y="1828800"/>
                <a:ext cx="403200" cy="360"/>
                <a:chOff x="8740080" y="1828800"/>
                <a:chExt cx="403200" cy="360"/>
              </a:xfrm>
            </p:grpSpPr>
            <p:sp>
              <p:nvSpPr>
                <p:cNvPr id="367" name="直接连接符 114701"/>
                <p:cNvSpPr/>
                <p:nvPr/>
              </p:nvSpPr>
              <p:spPr>
                <a:xfrm>
                  <a:off x="8740080" y="1828800"/>
                  <a:ext cx="40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 txBox="1"/>
                <p:nvPr/>
              </p:nvSpPr>
              <p:spPr>
                <a:xfrm>
                  <a:off x="8740080" y="1828800"/>
                  <a:ext cx="40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9143280" y="1295280"/>
                <a:ext cx="360" cy="533520"/>
                <a:chOff x="9143280" y="1295280"/>
                <a:chExt cx="360" cy="533520"/>
              </a:xfrm>
            </p:grpSpPr>
            <p:sp>
              <p:nvSpPr>
                <p:cNvPr id="370" name="直接连接符 114702"/>
                <p:cNvSpPr/>
                <p:nvPr/>
              </p:nvSpPr>
              <p:spPr>
                <a:xfrm>
                  <a:off x="9143280" y="1295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>
                  <a:off x="9143280" y="129528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8256240" y="1828800"/>
              <a:ext cx="360" cy="152280"/>
              <a:chOff x="8256240" y="1828800"/>
              <a:chExt cx="360" cy="152280"/>
            </a:xfrm>
          </p:grpSpPr>
          <p:sp>
            <p:nvSpPr>
              <p:cNvPr id="373" name="直接连接符 114703"/>
              <p:cNvSpPr/>
              <p:nvPr/>
            </p:nvSpPr>
            <p:spPr>
              <a:xfrm>
                <a:off x="8256240" y="1828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8256240" y="1828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8740440" y="1828800"/>
              <a:ext cx="360" cy="152280"/>
              <a:chOff x="8740440" y="1828800"/>
              <a:chExt cx="360" cy="152280"/>
            </a:xfrm>
          </p:grpSpPr>
          <p:sp>
            <p:nvSpPr>
              <p:cNvPr id="376" name="直接连接符 114704"/>
              <p:cNvSpPr/>
              <p:nvPr/>
            </p:nvSpPr>
            <p:spPr>
              <a:xfrm>
                <a:off x="8740440" y="1828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8740440" y="1828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八边形 114705"/>
          <p:cNvSpPr/>
          <p:nvPr/>
        </p:nvSpPr>
        <p:spPr>
          <a:xfrm>
            <a:off x="1295280" y="571500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14706"/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14707"/>
          <p:cNvSpPr/>
          <p:nvPr/>
        </p:nvSpPr>
        <p:spPr>
          <a:xfrm>
            <a:off x="380880" y="1752480"/>
            <a:ext cx="68580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14708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4709"/>
          <p:cNvSpPr/>
          <p:nvPr/>
        </p:nvSpPr>
        <p:spPr>
          <a:xfrm>
            <a:off x="5791320" y="5181480"/>
            <a:ext cx="15228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14710"/>
          <p:cNvSpPr/>
          <p:nvPr/>
        </p:nvSpPr>
        <p:spPr>
          <a:xfrm>
            <a:off x="4114800" y="4952880"/>
            <a:ext cx="167652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14711"/>
          <p:cNvSpPr/>
          <p:nvPr/>
        </p:nvSpPr>
        <p:spPr>
          <a:xfrm>
            <a:off x="3276720" y="5562720"/>
            <a:ext cx="76176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14712"/>
          <p:cNvSpPr/>
          <p:nvPr/>
        </p:nvSpPr>
        <p:spPr>
          <a:xfrm>
            <a:off x="3505320" y="419112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14713"/>
          <p:cNvSpPr/>
          <p:nvPr/>
        </p:nvSpPr>
        <p:spPr>
          <a:xfrm>
            <a:off x="3276720" y="3733920"/>
            <a:ext cx="99036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114714"/>
          <p:cNvSpPr/>
          <p:nvPr/>
        </p:nvSpPr>
        <p:spPr>
          <a:xfrm>
            <a:off x="8229600" y="1828800"/>
            <a:ext cx="53352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14715"/>
          <p:cNvSpPr/>
          <p:nvPr/>
        </p:nvSpPr>
        <p:spPr>
          <a:xfrm>
            <a:off x="7848720" y="1371600"/>
            <a:ext cx="1447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114716"/>
          <p:cNvSpPr/>
          <p:nvPr/>
        </p:nvSpPr>
        <p:spPr>
          <a:xfrm>
            <a:off x="7010280" y="419112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14717"/>
          <p:cNvGrpSpPr/>
          <p:nvPr/>
        </p:nvGrpSpPr>
        <p:grpSpPr>
          <a:xfrm>
            <a:off x="0" y="4648680"/>
            <a:ext cx="1676160" cy="761400"/>
            <a:chOff x="0" y="4648680"/>
            <a:chExt cx="1676160" cy="761400"/>
          </a:xfrm>
        </p:grpSpPr>
        <p:grpSp>
          <p:nvGrpSpPr>
            <p:cNvPr id="391" name="组合 114718"/>
            <p:cNvGrpSpPr/>
            <p:nvPr/>
          </p:nvGrpSpPr>
          <p:grpSpPr>
            <a:xfrm>
              <a:off x="0" y="4817520"/>
              <a:ext cx="1676160" cy="592560"/>
              <a:chOff x="0" y="4817520"/>
              <a:chExt cx="1676160" cy="592560"/>
            </a:xfrm>
          </p:grpSpPr>
          <p:sp>
            <p:nvSpPr>
              <p:cNvPr id="392" name="矩形 114719"/>
              <p:cNvSpPr/>
              <p:nvPr/>
            </p:nvSpPr>
            <p:spPr>
              <a:xfrm rot="10800000">
                <a:off x="360" y="4817880"/>
                <a:ext cx="1675800" cy="592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1675800" y="4817880"/>
                <a:ext cx="360" cy="592200"/>
                <a:chOff x="1675800" y="4817880"/>
                <a:chExt cx="360" cy="592200"/>
              </a:xfrm>
            </p:grpSpPr>
            <p:sp>
              <p:nvSpPr>
                <p:cNvPr id="394" name="直接连接符 114720"/>
                <p:cNvSpPr/>
                <p:nvPr/>
              </p:nvSpPr>
              <p:spPr>
                <a:xfrm flipV="1">
                  <a:off x="1676160" y="4817880"/>
                  <a:ext cx="0" cy="59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 txBox="1"/>
                <p:nvPr/>
              </p:nvSpPr>
              <p:spPr>
                <a:xfrm rot="10800000">
                  <a:off x="1675800" y="4817880"/>
                  <a:ext cx="3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60" y="5409720"/>
                <a:ext cx="1675800" cy="360"/>
                <a:chOff x="360" y="5409720"/>
                <a:chExt cx="1675800" cy="360"/>
              </a:xfrm>
            </p:grpSpPr>
            <p:sp>
              <p:nvSpPr>
                <p:cNvPr id="397" name="直接连接符 114721"/>
                <p:cNvSpPr/>
                <p:nvPr/>
              </p:nvSpPr>
              <p:spPr>
                <a:xfrm flipH="1">
                  <a:off x="360" y="5410080"/>
                  <a:ext cx="167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 txBox="1"/>
                <p:nvPr/>
              </p:nvSpPr>
              <p:spPr>
                <a:xfrm rot="10800000">
                  <a:off x="360" y="5409720"/>
                  <a:ext cx="167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085040" y="4817520"/>
                <a:ext cx="591120" cy="360"/>
                <a:chOff x="1085040" y="4817520"/>
                <a:chExt cx="591120" cy="360"/>
              </a:xfrm>
            </p:grpSpPr>
            <p:sp>
              <p:nvSpPr>
                <p:cNvPr id="400" name="直接连接符 114722"/>
                <p:cNvSpPr/>
                <p:nvPr/>
              </p:nvSpPr>
              <p:spPr>
                <a:xfrm flipH="1">
                  <a:off x="1085040" y="4817880"/>
                  <a:ext cx="59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 txBox="1"/>
                <p:nvPr/>
              </p:nvSpPr>
              <p:spPr>
                <a:xfrm rot="10800000">
                  <a:off x="1085040" y="4817520"/>
                  <a:ext cx="5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720" y="4817520"/>
                <a:ext cx="492840" cy="360"/>
                <a:chOff x="720" y="4817520"/>
                <a:chExt cx="492840" cy="360"/>
              </a:xfrm>
            </p:grpSpPr>
            <p:sp>
              <p:nvSpPr>
                <p:cNvPr id="403" name="直接连接符 114723"/>
                <p:cNvSpPr/>
                <p:nvPr/>
              </p:nvSpPr>
              <p:spPr>
                <a:xfrm flipH="1">
                  <a:off x="720" y="4817880"/>
                  <a:ext cx="49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 rot="10800000">
                  <a:off x="720" y="4817520"/>
                  <a:ext cx="492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0" y="4817880"/>
                <a:ext cx="360" cy="592200"/>
                <a:chOff x="0" y="4817880"/>
                <a:chExt cx="360" cy="592200"/>
              </a:xfrm>
            </p:grpSpPr>
            <p:sp>
              <p:nvSpPr>
                <p:cNvPr id="406" name="直接连接符 114724"/>
                <p:cNvSpPr/>
                <p:nvPr/>
              </p:nvSpPr>
              <p:spPr>
                <a:xfrm flipV="1">
                  <a:off x="360" y="4817880"/>
                  <a:ext cx="0" cy="59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 txBox="1"/>
                <p:nvPr/>
              </p:nvSpPr>
              <p:spPr>
                <a:xfrm rot="10800000">
                  <a:off x="0" y="4817880"/>
                  <a:ext cx="3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8" name=""/>
            <p:cNvGrpSpPr/>
            <p:nvPr/>
          </p:nvGrpSpPr>
          <p:grpSpPr>
            <a:xfrm>
              <a:off x="1084320" y="4648680"/>
              <a:ext cx="360" cy="168840"/>
              <a:chOff x="1084320" y="4648680"/>
              <a:chExt cx="360" cy="168840"/>
            </a:xfrm>
          </p:grpSpPr>
          <p:sp>
            <p:nvSpPr>
              <p:cNvPr id="409" name="直接连接符 114725"/>
              <p:cNvSpPr/>
              <p:nvPr/>
            </p:nvSpPr>
            <p:spPr>
              <a:xfrm flipV="1">
                <a:off x="1084680" y="464868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 rot="10800000">
                <a:off x="1084320" y="46486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92480" y="4648680"/>
              <a:ext cx="360" cy="168840"/>
              <a:chOff x="492480" y="4648680"/>
              <a:chExt cx="360" cy="168840"/>
            </a:xfrm>
          </p:grpSpPr>
          <p:sp>
            <p:nvSpPr>
              <p:cNvPr id="412" name="直接连接符 114726"/>
              <p:cNvSpPr/>
              <p:nvPr/>
            </p:nvSpPr>
            <p:spPr>
              <a:xfrm flipV="1">
                <a:off x="492840" y="464868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 rot="10800000">
                <a:off x="492480" y="46486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组合 114727"/>
          <p:cNvGrpSpPr/>
          <p:nvPr/>
        </p:nvGrpSpPr>
        <p:grpSpPr>
          <a:xfrm>
            <a:off x="6553080" y="3657600"/>
            <a:ext cx="1295640" cy="685800"/>
            <a:chOff x="6553080" y="3657600"/>
            <a:chExt cx="1295640" cy="685800"/>
          </a:xfrm>
        </p:grpSpPr>
        <p:grpSp>
          <p:nvGrpSpPr>
            <p:cNvPr id="415" name="组合 114728"/>
            <p:cNvGrpSpPr/>
            <p:nvPr/>
          </p:nvGrpSpPr>
          <p:grpSpPr>
            <a:xfrm>
              <a:off x="6553080" y="3657600"/>
              <a:ext cx="1295640" cy="533880"/>
              <a:chOff x="6553080" y="3657600"/>
              <a:chExt cx="1295640" cy="533880"/>
            </a:xfrm>
          </p:grpSpPr>
          <p:sp>
            <p:nvSpPr>
              <p:cNvPr id="416" name="矩形 114729"/>
              <p:cNvSpPr/>
              <p:nvPr/>
            </p:nvSpPr>
            <p:spPr>
              <a:xfrm>
                <a:off x="6553080" y="3657600"/>
                <a:ext cx="1295280" cy="533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553080" y="3657600"/>
                <a:ext cx="360" cy="533520"/>
                <a:chOff x="6553080" y="3657600"/>
                <a:chExt cx="360" cy="533520"/>
              </a:xfrm>
            </p:grpSpPr>
            <p:sp>
              <p:nvSpPr>
                <p:cNvPr id="418" name="直接连接符 114730"/>
                <p:cNvSpPr/>
                <p:nvPr/>
              </p:nvSpPr>
              <p:spPr>
                <a:xfrm>
                  <a:off x="6553080" y="365760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 txBox="1"/>
                <p:nvPr/>
              </p:nvSpPr>
              <p:spPr>
                <a:xfrm>
                  <a:off x="6553080" y="365760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553080" y="3657600"/>
                <a:ext cx="1295280" cy="360"/>
                <a:chOff x="6553080" y="3657600"/>
                <a:chExt cx="1295280" cy="360"/>
              </a:xfrm>
            </p:grpSpPr>
            <p:sp>
              <p:nvSpPr>
                <p:cNvPr id="421" name="直接连接符 114731"/>
                <p:cNvSpPr/>
                <p:nvPr/>
              </p:nvSpPr>
              <p:spPr>
                <a:xfrm>
                  <a:off x="6553080" y="365760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6553080" y="3657600"/>
                  <a:ext cx="12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553080" y="4191120"/>
                <a:ext cx="456840" cy="360"/>
                <a:chOff x="6553080" y="4191120"/>
                <a:chExt cx="456840" cy="360"/>
              </a:xfrm>
            </p:grpSpPr>
            <p:sp>
              <p:nvSpPr>
                <p:cNvPr id="424" name="直接连接符 114732"/>
                <p:cNvSpPr/>
                <p:nvPr/>
              </p:nvSpPr>
              <p:spPr>
                <a:xfrm>
                  <a:off x="6553080" y="41911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 txBox="1"/>
                <p:nvPr/>
              </p:nvSpPr>
              <p:spPr>
                <a:xfrm>
                  <a:off x="6553080" y="419112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67120" y="4191120"/>
                <a:ext cx="380880" cy="360"/>
                <a:chOff x="7467120" y="4191120"/>
                <a:chExt cx="380880" cy="360"/>
              </a:xfrm>
            </p:grpSpPr>
            <p:sp>
              <p:nvSpPr>
                <p:cNvPr id="427" name="直接连接符 114733"/>
                <p:cNvSpPr/>
                <p:nvPr/>
              </p:nvSpPr>
              <p:spPr>
                <a:xfrm>
                  <a:off x="7467120" y="4191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7467120" y="4191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7848360" y="3657600"/>
                <a:ext cx="360" cy="533520"/>
                <a:chOff x="7848360" y="3657600"/>
                <a:chExt cx="360" cy="533520"/>
              </a:xfrm>
            </p:grpSpPr>
            <p:sp>
              <p:nvSpPr>
                <p:cNvPr id="430" name="直接连接符 114734"/>
                <p:cNvSpPr/>
                <p:nvPr/>
              </p:nvSpPr>
              <p:spPr>
                <a:xfrm>
                  <a:off x="7848360" y="365760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>
                  <a:off x="7848360" y="365760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7010280" y="4191120"/>
              <a:ext cx="360" cy="152280"/>
              <a:chOff x="7010280" y="4191120"/>
              <a:chExt cx="360" cy="152280"/>
            </a:xfrm>
          </p:grpSpPr>
          <p:sp>
            <p:nvSpPr>
              <p:cNvPr id="433" name="直接连接符 114735"/>
              <p:cNvSpPr/>
              <p:nvPr/>
            </p:nvSpPr>
            <p:spPr>
              <a:xfrm>
                <a:off x="7010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 txBox="1"/>
              <p:nvPr/>
            </p:nvSpPr>
            <p:spPr>
              <a:xfrm>
                <a:off x="7010280" y="41911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7467480" y="4191120"/>
              <a:ext cx="360" cy="152280"/>
              <a:chOff x="7467480" y="4191120"/>
              <a:chExt cx="360" cy="152280"/>
            </a:xfrm>
          </p:grpSpPr>
          <p:sp>
            <p:nvSpPr>
              <p:cNvPr id="436" name="直接连接符 114736"/>
              <p:cNvSpPr/>
              <p:nvPr/>
            </p:nvSpPr>
            <p:spPr>
              <a:xfrm>
                <a:off x="7467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7467480" y="41911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8" name="组合 114737"/>
          <p:cNvGrpSpPr/>
          <p:nvPr/>
        </p:nvGrpSpPr>
        <p:grpSpPr>
          <a:xfrm>
            <a:off x="4343400" y="3656880"/>
            <a:ext cx="1827720" cy="609840"/>
            <a:chOff x="4343400" y="3656880"/>
            <a:chExt cx="1827720" cy="609840"/>
          </a:xfrm>
        </p:grpSpPr>
        <p:grpSp>
          <p:nvGrpSpPr>
            <p:cNvPr id="439" name="组合 114738"/>
            <p:cNvGrpSpPr/>
            <p:nvPr/>
          </p:nvGrpSpPr>
          <p:grpSpPr>
            <a:xfrm>
              <a:off x="4343400" y="3656880"/>
              <a:ext cx="1421640" cy="609840"/>
              <a:chOff x="4343400" y="3656880"/>
              <a:chExt cx="1421640" cy="609840"/>
            </a:xfrm>
          </p:grpSpPr>
          <p:sp>
            <p:nvSpPr>
              <p:cNvPr id="440" name="矩形 114739"/>
              <p:cNvSpPr/>
              <p:nvPr/>
            </p:nvSpPr>
            <p:spPr>
              <a:xfrm rot="16200000">
                <a:off x="4749120" y="3251160"/>
                <a:ext cx="609480" cy="1421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343400" y="4266360"/>
                <a:ext cx="1421280" cy="360"/>
                <a:chOff x="4343400" y="4266360"/>
                <a:chExt cx="1421280" cy="360"/>
              </a:xfrm>
            </p:grpSpPr>
            <p:sp>
              <p:nvSpPr>
                <p:cNvPr id="442" name="直接连接符 114740"/>
                <p:cNvSpPr/>
                <p:nvPr/>
              </p:nvSpPr>
              <p:spPr>
                <a:xfrm>
                  <a:off x="4343400" y="4266720"/>
                  <a:ext cx="142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 rot="16200000">
                  <a:off x="5053680" y="3555720"/>
                  <a:ext cx="360" cy="14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343400" y="3657240"/>
                <a:ext cx="360" cy="609480"/>
                <a:chOff x="4343400" y="3657240"/>
                <a:chExt cx="360" cy="609480"/>
              </a:xfrm>
            </p:grpSpPr>
            <p:sp>
              <p:nvSpPr>
                <p:cNvPr id="445" name="直接连接符 114741"/>
                <p:cNvSpPr/>
                <p:nvPr/>
              </p:nvSpPr>
              <p:spPr>
                <a:xfrm flipV="1">
                  <a:off x="4343400" y="36572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6200000">
                  <a:off x="4038840" y="3961800"/>
                  <a:ext cx="609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5764680" y="4051800"/>
                <a:ext cx="360" cy="214920"/>
                <a:chOff x="5764680" y="4051800"/>
                <a:chExt cx="360" cy="214920"/>
              </a:xfrm>
            </p:grpSpPr>
            <p:sp>
              <p:nvSpPr>
                <p:cNvPr id="448" name="直接连接符 114742"/>
                <p:cNvSpPr/>
                <p:nvPr/>
              </p:nvSpPr>
              <p:spPr>
                <a:xfrm flipV="1">
                  <a:off x="5764680" y="4051800"/>
                  <a:ext cx="0" cy="21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 txBox="1"/>
                <p:nvPr/>
              </p:nvSpPr>
              <p:spPr>
                <a:xfrm rot="16200000">
                  <a:off x="5657400" y="4159080"/>
                  <a:ext cx="21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764680" y="3657240"/>
                <a:ext cx="360" cy="179280"/>
                <a:chOff x="5764680" y="3657240"/>
                <a:chExt cx="360" cy="179280"/>
              </a:xfrm>
            </p:grpSpPr>
            <p:sp>
              <p:nvSpPr>
                <p:cNvPr id="451" name="直接连接符 114743"/>
                <p:cNvSpPr/>
                <p:nvPr/>
              </p:nvSpPr>
              <p:spPr>
                <a:xfrm flipV="1">
                  <a:off x="5764680" y="365724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 txBox="1"/>
                <p:nvPr/>
              </p:nvSpPr>
              <p:spPr>
                <a:xfrm rot="16200000">
                  <a:off x="5675040" y="3746520"/>
                  <a:ext cx="17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343400" y="3656880"/>
                <a:ext cx="1421280" cy="360"/>
                <a:chOff x="4343400" y="3656880"/>
                <a:chExt cx="1421280" cy="360"/>
              </a:xfrm>
            </p:grpSpPr>
            <p:sp>
              <p:nvSpPr>
                <p:cNvPr id="454" name="直接连接符 114744"/>
                <p:cNvSpPr/>
                <p:nvPr/>
              </p:nvSpPr>
              <p:spPr>
                <a:xfrm>
                  <a:off x="4343400" y="3657240"/>
                  <a:ext cx="142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 txBox="1"/>
                <p:nvPr/>
              </p:nvSpPr>
              <p:spPr>
                <a:xfrm rot="16200000">
                  <a:off x="5053680" y="2946240"/>
                  <a:ext cx="360" cy="14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" name=""/>
            <p:cNvGrpSpPr/>
            <p:nvPr/>
          </p:nvGrpSpPr>
          <p:grpSpPr>
            <a:xfrm>
              <a:off x="5765400" y="4051440"/>
              <a:ext cx="405720" cy="360"/>
              <a:chOff x="5765400" y="4051440"/>
              <a:chExt cx="405720" cy="360"/>
            </a:xfrm>
          </p:grpSpPr>
          <p:sp>
            <p:nvSpPr>
              <p:cNvPr id="457" name="直接连接符 114745"/>
              <p:cNvSpPr/>
              <p:nvPr/>
            </p:nvSpPr>
            <p:spPr>
              <a:xfrm>
                <a:off x="5765400" y="4051800"/>
                <a:ext cx="4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 rot="16200000">
                <a:off x="5968080" y="3848760"/>
                <a:ext cx="360" cy="40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765400" y="3836160"/>
              <a:ext cx="405720" cy="360"/>
              <a:chOff x="5765400" y="3836160"/>
              <a:chExt cx="405720" cy="360"/>
            </a:xfrm>
          </p:grpSpPr>
          <p:sp>
            <p:nvSpPr>
              <p:cNvPr id="460" name="直接连接符 114746"/>
              <p:cNvSpPr/>
              <p:nvPr/>
            </p:nvSpPr>
            <p:spPr>
              <a:xfrm>
                <a:off x="5765400" y="3836520"/>
                <a:ext cx="4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 rot="16200000">
                <a:off x="5968080" y="3633480"/>
                <a:ext cx="360" cy="40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文本框 114747"/>
          <p:cNvSpPr/>
          <p:nvPr/>
        </p:nvSpPr>
        <p:spPr>
          <a:xfrm>
            <a:off x="6477120" y="76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TV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14748"/>
          <p:cNvSpPr/>
          <p:nvPr/>
        </p:nvSpPr>
        <p:spPr>
          <a:xfrm>
            <a:off x="0" y="1828800"/>
            <a:ext cx="9144000" cy="533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14749"/>
          <p:cNvSpPr/>
          <p:nvPr/>
        </p:nvSpPr>
        <p:spPr>
          <a:xfrm>
            <a:off x="0" y="4267080"/>
            <a:ext cx="9144000" cy="533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14750"/>
          <p:cNvSpPr/>
          <p:nvPr/>
        </p:nvSpPr>
        <p:spPr>
          <a:xfrm>
            <a:off x="2590920" y="0"/>
            <a:ext cx="533160" cy="685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14751"/>
          <p:cNvSpPr/>
          <p:nvPr/>
        </p:nvSpPr>
        <p:spPr>
          <a:xfrm>
            <a:off x="5867280" y="0"/>
            <a:ext cx="533520" cy="685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4752"/>
          <p:cNvSpPr/>
          <p:nvPr/>
        </p:nvSpPr>
        <p:spPr>
          <a:xfrm>
            <a:off x="152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Air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14753"/>
          <p:cNvSpPr/>
          <p:nvPr/>
        </p:nvSpPr>
        <p:spPr>
          <a:xfrm>
            <a:off x="48006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Fire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14754"/>
          <p:cNvSpPr/>
          <p:nvPr/>
        </p:nvSpPr>
        <p:spPr>
          <a:xfrm>
            <a:off x="4419720" y="2743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os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14755"/>
          <p:cNvSpPr/>
          <p:nvPr/>
        </p:nvSpPr>
        <p:spPr>
          <a:xfrm>
            <a:off x="320040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14756"/>
          <p:cNvSpPr/>
          <p:nvPr/>
        </p:nvSpPr>
        <p:spPr>
          <a:xfrm>
            <a:off x="4343400" y="3733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B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宋体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14757"/>
          <p:cNvSpPr/>
          <p:nvPr/>
        </p:nvSpPr>
        <p:spPr>
          <a:xfrm>
            <a:off x="66294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114758"/>
          <p:cNvSpPr/>
          <p:nvPr/>
        </p:nvSpPr>
        <p:spPr>
          <a:xfrm>
            <a:off x="1066680" y="2666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hinese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14759"/>
          <p:cNvSpPr/>
          <p:nvPr/>
        </p:nvSpPr>
        <p:spPr>
          <a:xfrm>
            <a:off x="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uper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114760"/>
          <p:cNvSpPr/>
          <p:nvPr/>
        </p:nvSpPr>
        <p:spPr>
          <a:xfrm>
            <a:off x="16002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a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14761"/>
          <p:cNvSpPr/>
          <p:nvPr/>
        </p:nvSpPr>
        <p:spPr>
          <a:xfrm>
            <a:off x="32767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114762"/>
          <p:cNvSpPr/>
          <p:nvPr/>
        </p:nvSpPr>
        <p:spPr>
          <a:xfrm>
            <a:off x="4191120" y="4968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Department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14763"/>
          <p:cNvSpPr/>
          <p:nvPr/>
        </p:nvSpPr>
        <p:spPr>
          <a:xfrm>
            <a:off x="2743200" y="609480"/>
            <a:ext cx="3049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宋体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宋体"/>
              </a:rPr>
              <a:t>Stre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14764"/>
          <p:cNvSpPr/>
          <p:nvPr/>
        </p:nvSpPr>
        <p:spPr>
          <a:xfrm>
            <a:off x="5943600" y="609480"/>
            <a:ext cx="3049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Stree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椭圆 114765"/>
          <p:cNvSpPr/>
          <p:nvPr/>
        </p:nvSpPr>
        <p:spPr>
          <a:xfrm flipV="1">
            <a:off x="5943600" y="-72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椭圆 114766"/>
          <p:cNvSpPr/>
          <p:nvPr/>
        </p:nvSpPr>
        <p:spPr>
          <a:xfrm flipV="1">
            <a:off x="5943600" y="11422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114767"/>
          <p:cNvSpPr/>
          <p:nvPr/>
        </p:nvSpPr>
        <p:spPr>
          <a:xfrm flipV="1">
            <a:off x="5943600" y="220896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椭圆 114768"/>
          <p:cNvSpPr/>
          <p:nvPr/>
        </p:nvSpPr>
        <p:spPr>
          <a:xfrm flipV="1">
            <a:off x="5943600" y="335196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椭圆 114769"/>
          <p:cNvSpPr/>
          <p:nvPr/>
        </p:nvSpPr>
        <p:spPr>
          <a:xfrm flipV="1">
            <a:off x="5943600" y="4342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114770"/>
          <p:cNvSpPr/>
          <p:nvPr/>
        </p:nvSpPr>
        <p:spPr>
          <a:xfrm flipV="1">
            <a:off x="5181480" y="4342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椭圆 114771"/>
          <p:cNvSpPr/>
          <p:nvPr/>
        </p:nvSpPr>
        <p:spPr>
          <a:xfrm flipV="1">
            <a:off x="4343400" y="4342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4772"/>
          <p:cNvSpPr/>
          <p:nvPr/>
        </p:nvSpPr>
        <p:spPr>
          <a:xfrm flipV="1">
            <a:off x="3505320" y="426636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14773"/>
          <p:cNvSpPr/>
          <p:nvPr/>
        </p:nvSpPr>
        <p:spPr>
          <a:xfrm>
            <a:off x="2438280" y="6095880"/>
            <a:ext cx="15264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114774"/>
          <p:cNvSpPr/>
          <p:nvPr/>
        </p:nvSpPr>
        <p:spPr>
          <a:xfrm rot="16200000">
            <a:off x="5562360" y="60948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114775"/>
          <p:cNvSpPr/>
          <p:nvPr/>
        </p:nvSpPr>
        <p:spPr>
          <a:xfrm>
            <a:off x="533520" y="4724280"/>
            <a:ext cx="53316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114776"/>
          <p:cNvSpPr/>
          <p:nvPr/>
        </p:nvSpPr>
        <p:spPr>
          <a:xfrm>
            <a:off x="3124080" y="5638680"/>
            <a:ext cx="152640" cy="1526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114777"/>
          <p:cNvGrpSpPr/>
          <p:nvPr/>
        </p:nvGrpSpPr>
        <p:grpSpPr>
          <a:xfrm>
            <a:off x="3657600" y="0"/>
            <a:ext cx="2514960" cy="4496040"/>
            <a:chOff x="3657600" y="0"/>
            <a:chExt cx="2514960" cy="4496040"/>
          </a:xfrm>
        </p:grpSpPr>
        <p:grpSp>
          <p:nvGrpSpPr>
            <p:cNvPr id="493" name=""/>
            <p:cNvGrpSpPr/>
            <p:nvPr/>
          </p:nvGrpSpPr>
          <p:grpSpPr>
            <a:xfrm>
              <a:off x="6172200" y="0"/>
              <a:ext cx="360" cy="4495680"/>
              <a:chOff x="6172200" y="0"/>
              <a:chExt cx="360" cy="4495680"/>
            </a:xfrm>
          </p:grpSpPr>
          <p:sp>
            <p:nvSpPr>
              <p:cNvPr id="494" name="直接连接符 114778"/>
              <p:cNvSpPr/>
              <p:nvPr/>
            </p:nvSpPr>
            <p:spPr>
              <a:xfrm>
                <a:off x="6172200" y="0"/>
                <a:ext cx="0" cy="449568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6172200" y="0"/>
                <a:ext cx="36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3657600" y="4495680"/>
              <a:ext cx="2514600" cy="360"/>
              <a:chOff x="3657600" y="4495680"/>
              <a:chExt cx="2514600" cy="360"/>
            </a:xfrm>
          </p:grpSpPr>
          <p:sp>
            <p:nvSpPr>
              <p:cNvPr id="497" name="直接连接符 114779"/>
              <p:cNvSpPr/>
              <p:nvPr/>
            </p:nvSpPr>
            <p:spPr>
              <a:xfrm>
                <a:off x="3657600" y="4495680"/>
                <a:ext cx="251460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3657600" y="449568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3657600" y="4114440"/>
              <a:ext cx="360" cy="380880"/>
              <a:chOff x="3657600" y="4114440"/>
              <a:chExt cx="360" cy="380880"/>
            </a:xfrm>
          </p:grpSpPr>
          <p:sp>
            <p:nvSpPr>
              <p:cNvPr id="500" name="直接连接符 114780"/>
              <p:cNvSpPr/>
              <p:nvPr/>
            </p:nvSpPr>
            <p:spPr>
              <a:xfrm>
                <a:off x="3657600" y="4114440"/>
                <a:ext cx="0" cy="38088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3657600" y="4114440"/>
                <a:ext cx="3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2" name="文本框 114781"/>
          <p:cNvSpPr/>
          <p:nvPr/>
        </p:nvSpPr>
        <p:spPr>
          <a:xfrm>
            <a:off x="320040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14782"/>
          <p:cNvSpPr/>
          <p:nvPr/>
        </p:nvSpPr>
        <p:spPr>
          <a:xfrm>
            <a:off x="320040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流程图: 顺序访问存储器 114783"/>
          <p:cNvSpPr/>
          <p:nvPr/>
        </p:nvSpPr>
        <p:spPr>
          <a:xfrm rot="10800000">
            <a:off x="6411960" y="4800240"/>
            <a:ext cx="914400" cy="762120"/>
          </a:xfrm>
          <a:prstGeom prst="flowChartMagneticTape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114784"/>
          <p:cNvSpPr/>
          <p:nvPr/>
        </p:nvSpPr>
        <p:spPr>
          <a:xfrm>
            <a:off x="6564240" y="4952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Z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5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115713"/>
          <p:cNvSpPr/>
          <p:nvPr/>
        </p:nvSpPr>
        <p:spPr>
          <a:xfrm>
            <a:off x="533520" y="4724280"/>
            <a:ext cx="53316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115714"/>
          <p:cNvSpPr/>
          <p:nvPr/>
        </p:nvSpPr>
        <p:spPr>
          <a:xfrm>
            <a:off x="1219320" y="3505320"/>
            <a:ext cx="1523880" cy="76176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115715"/>
          <p:cNvSpPr/>
          <p:nvPr/>
        </p:nvSpPr>
        <p:spPr>
          <a:xfrm>
            <a:off x="4495680" y="2666880"/>
            <a:ext cx="1295640" cy="533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115716"/>
          <p:cNvSpPr/>
          <p:nvPr/>
        </p:nvSpPr>
        <p:spPr>
          <a:xfrm>
            <a:off x="4800600" y="0"/>
            <a:ext cx="990720" cy="12193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15717"/>
          <p:cNvSpPr/>
          <p:nvPr/>
        </p:nvSpPr>
        <p:spPr>
          <a:xfrm rot="16200000">
            <a:off x="6172200" y="152280"/>
            <a:ext cx="38088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115718"/>
          <p:cNvSpPr/>
          <p:nvPr/>
        </p:nvSpPr>
        <p:spPr>
          <a:xfrm>
            <a:off x="6477120" y="0"/>
            <a:ext cx="1447560" cy="609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115719"/>
          <p:cNvGrpSpPr/>
          <p:nvPr/>
        </p:nvGrpSpPr>
        <p:grpSpPr>
          <a:xfrm>
            <a:off x="7772400" y="1295280"/>
            <a:ext cx="1371240" cy="685800"/>
            <a:chOff x="7772400" y="1295280"/>
            <a:chExt cx="1371240" cy="685800"/>
          </a:xfrm>
        </p:grpSpPr>
        <p:grpSp>
          <p:nvGrpSpPr>
            <p:cNvPr id="514" name="组合 115720"/>
            <p:cNvGrpSpPr/>
            <p:nvPr/>
          </p:nvGrpSpPr>
          <p:grpSpPr>
            <a:xfrm>
              <a:off x="7772400" y="1295280"/>
              <a:ext cx="1371240" cy="533880"/>
              <a:chOff x="7772400" y="1295280"/>
              <a:chExt cx="1371240" cy="533880"/>
            </a:xfrm>
          </p:grpSpPr>
          <p:sp>
            <p:nvSpPr>
              <p:cNvPr id="515" name="矩形 115721"/>
              <p:cNvSpPr/>
              <p:nvPr/>
            </p:nvSpPr>
            <p:spPr>
              <a:xfrm>
                <a:off x="7772400" y="1295280"/>
                <a:ext cx="1370880" cy="533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7772400" y="1295280"/>
                <a:ext cx="360" cy="533520"/>
                <a:chOff x="7772400" y="1295280"/>
                <a:chExt cx="360" cy="533520"/>
              </a:xfrm>
            </p:grpSpPr>
            <p:sp>
              <p:nvSpPr>
                <p:cNvPr id="517" name="直接连接符 115722"/>
                <p:cNvSpPr/>
                <p:nvPr/>
              </p:nvSpPr>
              <p:spPr>
                <a:xfrm>
                  <a:off x="7772400" y="1295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>
                  <a:off x="7772400" y="129528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7772400" y="1295280"/>
                <a:ext cx="1370880" cy="360"/>
                <a:chOff x="7772400" y="1295280"/>
                <a:chExt cx="1370880" cy="360"/>
              </a:xfrm>
            </p:grpSpPr>
            <p:sp>
              <p:nvSpPr>
                <p:cNvPr id="520" name="直接连接符 115723"/>
                <p:cNvSpPr/>
                <p:nvPr/>
              </p:nvSpPr>
              <p:spPr>
                <a:xfrm>
                  <a:off x="7772400" y="1295280"/>
                  <a:ext cx="137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 txBox="1"/>
                <p:nvPr/>
              </p:nvSpPr>
              <p:spPr>
                <a:xfrm>
                  <a:off x="7772400" y="1295280"/>
                  <a:ext cx="137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772400" y="1828800"/>
                <a:ext cx="483840" cy="360"/>
                <a:chOff x="7772400" y="1828800"/>
                <a:chExt cx="483840" cy="360"/>
              </a:xfrm>
            </p:grpSpPr>
            <p:sp>
              <p:nvSpPr>
                <p:cNvPr id="523" name="直接连接符 115724"/>
                <p:cNvSpPr/>
                <p:nvPr/>
              </p:nvSpPr>
              <p:spPr>
                <a:xfrm>
                  <a:off x="7772400" y="1828800"/>
                  <a:ext cx="48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 txBox="1"/>
                <p:nvPr/>
              </p:nvSpPr>
              <p:spPr>
                <a:xfrm>
                  <a:off x="7772400" y="1828800"/>
                  <a:ext cx="483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8740080" y="1828800"/>
                <a:ext cx="403200" cy="360"/>
                <a:chOff x="8740080" y="1828800"/>
                <a:chExt cx="403200" cy="360"/>
              </a:xfrm>
            </p:grpSpPr>
            <p:sp>
              <p:nvSpPr>
                <p:cNvPr id="526" name="直接连接符 115725"/>
                <p:cNvSpPr/>
                <p:nvPr/>
              </p:nvSpPr>
              <p:spPr>
                <a:xfrm>
                  <a:off x="8740080" y="1828800"/>
                  <a:ext cx="40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>
                  <a:off x="8740080" y="1828800"/>
                  <a:ext cx="403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9143280" y="1295280"/>
                <a:ext cx="360" cy="533520"/>
                <a:chOff x="9143280" y="1295280"/>
                <a:chExt cx="360" cy="533520"/>
              </a:xfrm>
            </p:grpSpPr>
            <p:sp>
              <p:nvSpPr>
                <p:cNvPr id="529" name="直接连接符 115726"/>
                <p:cNvSpPr/>
                <p:nvPr/>
              </p:nvSpPr>
              <p:spPr>
                <a:xfrm>
                  <a:off x="9143280" y="129528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>
                  <a:off x="9143280" y="129528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8256240" y="1828800"/>
              <a:ext cx="360" cy="152280"/>
              <a:chOff x="8256240" y="1828800"/>
              <a:chExt cx="360" cy="152280"/>
            </a:xfrm>
          </p:grpSpPr>
          <p:sp>
            <p:nvSpPr>
              <p:cNvPr id="532" name="直接连接符 115727"/>
              <p:cNvSpPr/>
              <p:nvPr/>
            </p:nvSpPr>
            <p:spPr>
              <a:xfrm>
                <a:off x="8256240" y="1828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8256240" y="1828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8740440" y="1828800"/>
              <a:ext cx="360" cy="152280"/>
              <a:chOff x="8740440" y="1828800"/>
              <a:chExt cx="360" cy="152280"/>
            </a:xfrm>
          </p:grpSpPr>
          <p:sp>
            <p:nvSpPr>
              <p:cNvPr id="535" name="直接连接符 115728"/>
              <p:cNvSpPr/>
              <p:nvPr/>
            </p:nvSpPr>
            <p:spPr>
              <a:xfrm>
                <a:off x="8740440" y="1828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8740440" y="18288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八边形 115729"/>
          <p:cNvSpPr/>
          <p:nvPr/>
        </p:nvSpPr>
        <p:spPr>
          <a:xfrm>
            <a:off x="1295280" y="5715000"/>
            <a:ext cx="1143000" cy="1143000"/>
          </a:xfrm>
          <a:prstGeom prst="octagon">
            <a:avLst>
              <a:gd name="adj" fmla="val 29287"/>
            </a:avLst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15730"/>
          <p:cNvSpPr/>
          <p:nvPr/>
        </p:nvSpPr>
        <p:spPr>
          <a:xfrm>
            <a:off x="0" y="1143000"/>
            <a:ext cx="1447920" cy="6094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15731"/>
          <p:cNvSpPr/>
          <p:nvPr/>
        </p:nvSpPr>
        <p:spPr>
          <a:xfrm>
            <a:off x="380880" y="1752480"/>
            <a:ext cx="68580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15732"/>
          <p:cNvSpPr/>
          <p:nvPr/>
        </p:nvSpPr>
        <p:spPr>
          <a:xfrm>
            <a:off x="5715000" y="3809880"/>
            <a:ext cx="15228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115733"/>
          <p:cNvSpPr/>
          <p:nvPr/>
        </p:nvSpPr>
        <p:spPr>
          <a:xfrm>
            <a:off x="5791320" y="5181480"/>
            <a:ext cx="15228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15734"/>
          <p:cNvSpPr/>
          <p:nvPr/>
        </p:nvSpPr>
        <p:spPr>
          <a:xfrm>
            <a:off x="4114800" y="4952880"/>
            <a:ext cx="1676520" cy="914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115735"/>
          <p:cNvSpPr/>
          <p:nvPr/>
        </p:nvSpPr>
        <p:spPr>
          <a:xfrm>
            <a:off x="3276720" y="5562720"/>
            <a:ext cx="761760" cy="380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115736"/>
          <p:cNvSpPr/>
          <p:nvPr/>
        </p:nvSpPr>
        <p:spPr>
          <a:xfrm>
            <a:off x="3505320" y="419112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5737"/>
          <p:cNvSpPr/>
          <p:nvPr/>
        </p:nvSpPr>
        <p:spPr>
          <a:xfrm>
            <a:off x="3276720" y="3733920"/>
            <a:ext cx="99036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15738"/>
          <p:cNvSpPr/>
          <p:nvPr/>
        </p:nvSpPr>
        <p:spPr>
          <a:xfrm>
            <a:off x="8229600" y="1828800"/>
            <a:ext cx="533520" cy="2286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15739"/>
          <p:cNvSpPr/>
          <p:nvPr/>
        </p:nvSpPr>
        <p:spPr>
          <a:xfrm>
            <a:off x="7848720" y="13716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15740"/>
          <p:cNvSpPr/>
          <p:nvPr/>
        </p:nvSpPr>
        <p:spPr>
          <a:xfrm>
            <a:off x="7010280" y="419112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15741"/>
          <p:cNvGrpSpPr/>
          <p:nvPr/>
        </p:nvGrpSpPr>
        <p:grpSpPr>
          <a:xfrm>
            <a:off x="0" y="4648680"/>
            <a:ext cx="1676160" cy="761400"/>
            <a:chOff x="0" y="4648680"/>
            <a:chExt cx="1676160" cy="761400"/>
          </a:xfrm>
        </p:grpSpPr>
        <p:grpSp>
          <p:nvGrpSpPr>
            <p:cNvPr id="550" name="组合 115742"/>
            <p:cNvGrpSpPr/>
            <p:nvPr/>
          </p:nvGrpSpPr>
          <p:grpSpPr>
            <a:xfrm>
              <a:off x="0" y="4817520"/>
              <a:ext cx="1676160" cy="592560"/>
              <a:chOff x="0" y="4817520"/>
              <a:chExt cx="1676160" cy="592560"/>
            </a:xfrm>
          </p:grpSpPr>
          <p:sp>
            <p:nvSpPr>
              <p:cNvPr id="551" name="矩形 115743"/>
              <p:cNvSpPr/>
              <p:nvPr/>
            </p:nvSpPr>
            <p:spPr>
              <a:xfrm rot="10800000">
                <a:off x="360" y="4817880"/>
                <a:ext cx="1675800" cy="5922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1675800" y="4817880"/>
                <a:ext cx="360" cy="592200"/>
                <a:chOff x="1675800" y="4817880"/>
                <a:chExt cx="360" cy="592200"/>
              </a:xfrm>
            </p:grpSpPr>
            <p:sp>
              <p:nvSpPr>
                <p:cNvPr id="553" name="直接连接符 115744"/>
                <p:cNvSpPr/>
                <p:nvPr/>
              </p:nvSpPr>
              <p:spPr>
                <a:xfrm flipV="1">
                  <a:off x="1676160" y="4817880"/>
                  <a:ext cx="0" cy="59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 txBox="1"/>
                <p:nvPr/>
              </p:nvSpPr>
              <p:spPr>
                <a:xfrm rot="10800000">
                  <a:off x="1675800" y="4817880"/>
                  <a:ext cx="3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360" y="5409720"/>
                <a:ext cx="1675800" cy="360"/>
                <a:chOff x="360" y="5409720"/>
                <a:chExt cx="1675800" cy="360"/>
              </a:xfrm>
            </p:grpSpPr>
            <p:sp>
              <p:nvSpPr>
                <p:cNvPr id="556" name="直接连接符 115745"/>
                <p:cNvSpPr/>
                <p:nvPr/>
              </p:nvSpPr>
              <p:spPr>
                <a:xfrm flipH="1">
                  <a:off x="360" y="5410080"/>
                  <a:ext cx="167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 txBox="1"/>
                <p:nvPr/>
              </p:nvSpPr>
              <p:spPr>
                <a:xfrm rot="10800000">
                  <a:off x="360" y="5409720"/>
                  <a:ext cx="1675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085040" y="4817520"/>
                <a:ext cx="591120" cy="360"/>
                <a:chOff x="1085040" y="4817520"/>
                <a:chExt cx="591120" cy="360"/>
              </a:xfrm>
            </p:grpSpPr>
            <p:sp>
              <p:nvSpPr>
                <p:cNvPr id="559" name="直接连接符 115746"/>
                <p:cNvSpPr/>
                <p:nvPr/>
              </p:nvSpPr>
              <p:spPr>
                <a:xfrm flipH="1">
                  <a:off x="1085040" y="4817880"/>
                  <a:ext cx="59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 txBox="1"/>
                <p:nvPr/>
              </p:nvSpPr>
              <p:spPr>
                <a:xfrm rot="10800000">
                  <a:off x="1085040" y="4817520"/>
                  <a:ext cx="59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720" y="4817520"/>
                <a:ext cx="492840" cy="360"/>
                <a:chOff x="720" y="4817520"/>
                <a:chExt cx="492840" cy="360"/>
              </a:xfrm>
            </p:grpSpPr>
            <p:sp>
              <p:nvSpPr>
                <p:cNvPr id="562" name="直接连接符 115747"/>
                <p:cNvSpPr/>
                <p:nvPr/>
              </p:nvSpPr>
              <p:spPr>
                <a:xfrm flipH="1">
                  <a:off x="720" y="4817880"/>
                  <a:ext cx="492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 txBox="1"/>
                <p:nvPr/>
              </p:nvSpPr>
              <p:spPr>
                <a:xfrm rot="10800000">
                  <a:off x="720" y="4817520"/>
                  <a:ext cx="492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0" y="4817880"/>
                <a:ext cx="360" cy="592200"/>
                <a:chOff x="0" y="4817880"/>
                <a:chExt cx="360" cy="592200"/>
              </a:xfrm>
            </p:grpSpPr>
            <p:sp>
              <p:nvSpPr>
                <p:cNvPr id="565" name="直接连接符 115748"/>
                <p:cNvSpPr/>
                <p:nvPr/>
              </p:nvSpPr>
              <p:spPr>
                <a:xfrm flipV="1">
                  <a:off x="360" y="4817880"/>
                  <a:ext cx="0" cy="59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 txBox="1"/>
                <p:nvPr/>
              </p:nvSpPr>
              <p:spPr>
                <a:xfrm rot="10800000">
                  <a:off x="0" y="4817880"/>
                  <a:ext cx="360" cy="59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"/>
            <p:cNvGrpSpPr/>
            <p:nvPr/>
          </p:nvGrpSpPr>
          <p:grpSpPr>
            <a:xfrm>
              <a:off x="1084320" y="4648680"/>
              <a:ext cx="360" cy="168840"/>
              <a:chOff x="1084320" y="4648680"/>
              <a:chExt cx="360" cy="168840"/>
            </a:xfrm>
          </p:grpSpPr>
          <p:sp>
            <p:nvSpPr>
              <p:cNvPr id="568" name="直接连接符 115749"/>
              <p:cNvSpPr/>
              <p:nvPr/>
            </p:nvSpPr>
            <p:spPr>
              <a:xfrm flipV="1">
                <a:off x="1084680" y="464868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 rot="10800000">
                <a:off x="1084320" y="46486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92480" y="4648680"/>
              <a:ext cx="360" cy="168840"/>
              <a:chOff x="492480" y="4648680"/>
              <a:chExt cx="360" cy="168840"/>
            </a:xfrm>
          </p:grpSpPr>
          <p:sp>
            <p:nvSpPr>
              <p:cNvPr id="571" name="直接连接符 115750"/>
              <p:cNvSpPr/>
              <p:nvPr/>
            </p:nvSpPr>
            <p:spPr>
              <a:xfrm flipV="1">
                <a:off x="492840" y="4648680"/>
                <a:ext cx="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 rot="10800000">
                <a:off x="492480" y="4648680"/>
                <a:ext cx="360" cy="16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组合 115751"/>
          <p:cNvGrpSpPr/>
          <p:nvPr/>
        </p:nvGrpSpPr>
        <p:grpSpPr>
          <a:xfrm>
            <a:off x="6553080" y="3657600"/>
            <a:ext cx="1295640" cy="685800"/>
            <a:chOff x="6553080" y="3657600"/>
            <a:chExt cx="1295640" cy="685800"/>
          </a:xfrm>
        </p:grpSpPr>
        <p:grpSp>
          <p:nvGrpSpPr>
            <p:cNvPr id="574" name="组合 115752"/>
            <p:cNvGrpSpPr/>
            <p:nvPr/>
          </p:nvGrpSpPr>
          <p:grpSpPr>
            <a:xfrm>
              <a:off x="6553080" y="3657600"/>
              <a:ext cx="1295640" cy="533880"/>
              <a:chOff x="6553080" y="3657600"/>
              <a:chExt cx="1295640" cy="533880"/>
            </a:xfrm>
          </p:grpSpPr>
          <p:sp>
            <p:nvSpPr>
              <p:cNvPr id="575" name="矩形 115753"/>
              <p:cNvSpPr/>
              <p:nvPr/>
            </p:nvSpPr>
            <p:spPr>
              <a:xfrm>
                <a:off x="6553080" y="3657600"/>
                <a:ext cx="1295280" cy="533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553080" y="3657600"/>
                <a:ext cx="360" cy="533520"/>
                <a:chOff x="6553080" y="3657600"/>
                <a:chExt cx="360" cy="533520"/>
              </a:xfrm>
            </p:grpSpPr>
            <p:sp>
              <p:nvSpPr>
                <p:cNvPr id="577" name="直接连接符 115754"/>
                <p:cNvSpPr/>
                <p:nvPr/>
              </p:nvSpPr>
              <p:spPr>
                <a:xfrm>
                  <a:off x="6553080" y="365760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>
                  <a:off x="6553080" y="365760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6553080" y="3657600"/>
                <a:ext cx="1295280" cy="360"/>
                <a:chOff x="6553080" y="3657600"/>
                <a:chExt cx="1295280" cy="360"/>
              </a:xfrm>
            </p:grpSpPr>
            <p:sp>
              <p:nvSpPr>
                <p:cNvPr id="580" name="直接连接符 115755"/>
                <p:cNvSpPr/>
                <p:nvPr/>
              </p:nvSpPr>
              <p:spPr>
                <a:xfrm>
                  <a:off x="6553080" y="365760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6553080" y="3657600"/>
                  <a:ext cx="12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6553080" y="4191120"/>
                <a:ext cx="456840" cy="360"/>
                <a:chOff x="6553080" y="4191120"/>
                <a:chExt cx="456840" cy="360"/>
              </a:xfrm>
            </p:grpSpPr>
            <p:sp>
              <p:nvSpPr>
                <p:cNvPr id="583" name="直接连接符 115756"/>
                <p:cNvSpPr/>
                <p:nvPr/>
              </p:nvSpPr>
              <p:spPr>
                <a:xfrm>
                  <a:off x="6553080" y="41911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6553080" y="4191120"/>
                  <a:ext cx="45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7467120" y="4191120"/>
                <a:ext cx="380880" cy="360"/>
                <a:chOff x="7467120" y="4191120"/>
                <a:chExt cx="380880" cy="360"/>
              </a:xfrm>
            </p:grpSpPr>
            <p:sp>
              <p:nvSpPr>
                <p:cNvPr id="586" name="直接连接符 115757"/>
                <p:cNvSpPr/>
                <p:nvPr/>
              </p:nvSpPr>
              <p:spPr>
                <a:xfrm>
                  <a:off x="7467120" y="4191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>
                  <a:off x="7467120" y="4191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848360" y="3657600"/>
                <a:ext cx="360" cy="533520"/>
                <a:chOff x="7848360" y="3657600"/>
                <a:chExt cx="360" cy="533520"/>
              </a:xfrm>
            </p:grpSpPr>
            <p:sp>
              <p:nvSpPr>
                <p:cNvPr id="589" name="直接连接符 115758"/>
                <p:cNvSpPr/>
                <p:nvPr/>
              </p:nvSpPr>
              <p:spPr>
                <a:xfrm>
                  <a:off x="7848360" y="3657600"/>
                  <a:ext cx="0" cy="533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7848360" y="3657600"/>
                  <a:ext cx="36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7010280" y="4191120"/>
              <a:ext cx="360" cy="152280"/>
              <a:chOff x="7010280" y="4191120"/>
              <a:chExt cx="360" cy="152280"/>
            </a:xfrm>
          </p:grpSpPr>
          <p:sp>
            <p:nvSpPr>
              <p:cNvPr id="592" name="直接连接符 115759"/>
              <p:cNvSpPr/>
              <p:nvPr/>
            </p:nvSpPr>
            <p:spPr>
              <a:xfrm>
                <a:off x="70102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7010280" y="41911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7467480" y="4191120"/>
              <a:ext cx="360" cy="152280"/>
              <a:chOff x="7467480" y="4191120"/>
              <a:chExt cx="360" cy="152280"/>
            </a:xfrm>
          </p:grpSpPr>
          <p:sp>
            <p:nvSpPr>
              <p:cNvPr id="595" name="直接连接符 115760"/>
              <p:cNvSpPr/>
              <p:nvPr/>
            </p:nvSpPr>
            <p:spPr>
              <a:xfrm>
                <a:off x="7467480" y="41911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7467480" y="419112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7" name="组合 115761"/>
          <p:cNvGrpSpPr/>
          <p:nvPr/>
        </p:nvGrpSpPr>
        <p:grpSpPr>
          <a:xfrm>
            <a:off x="4343400" y="3656880"/>
            <a:ext cx="1827720" cy="609840"/>
            <a:chOff x="4343400" y="3656880"/>
            <a:chExt cx="1827720" cy="609840"/>
          </a:xfrm>
        </p:grpSpPr>
        <p:grpSp>
          <p:nvGrpSpPr>
            <p:cNvPr id="598" name="组合 115762"/>
            <p:cNvGrpSpPr/>
            <p:nvPr/>
          </p:nvGrpSpPr>
          <p:grpSpPr>
            <a:xfrm>
              <a:off x="4343400" y="3656880"/>
              <a:ext cx="1421640" cy="609840"/>
              <a:chOff x="4343400" y="3656880"/>
              <a:chExt cx="1421640" cy="609840"/>
            </a:xfrm>
          </p:grpSpPr>
          <p:sp>
            <p:nvSpPr>
              <p:cNvPr id="599" name="矩形 115763"/>
              <p:cNvSpPr/>
              <p:nvPr/>
            </p:nvSpPr>
            <p:spPr>
              <a:xfrm rot="16200000">
                <a:off x="4749120" y="3251160"/>
                <a:ext cx="609480" cy="14212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4343400" y="4266360"/>
                <a:ext cx="1421280" cy="360"/>
                <a:chOff x="4343400" y="4266360"/>
                <a:chExt cx="1421280" cy="360"/>
              </a:xfrm>
            </p:grpSpPr>
            <p:sp>
              <p:nvSpPr>
                <p:cNvPr id="601" name="直接连接符 115764"/>
                <p:cNvSpPr/>
                <p:nvPr/>
              </p:nvSpPr>
              <p:spPr>
                <a:xfrm>
                  <a:off x="4343400" y="4266720"/>
                  <a:ext cx="142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 txBox="1"/>
                <p:nvPr/>
              </p:nvSpPr>
              <p:spPr>
                <a:xfrm rot="16200000">
                  <a:off x="5053680" y="3555720"/>
                  <a:ext cx="360" cy="14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4343400" y="3657240"/>
                <a:ext cx="360" cy="609480"/>
                <a:chOff x="4343400" y="3657240"/>
                <a:chExt cx="360" cy="609480"/>
              </a:xfrm>
            </p:grpSpPr>
            <p:sp>
              <p:nvSpPr>
                <p:cNvPr id="604" name="直接连接符 115765"/>
                <p:cNvSpPr/>
                <p:nvPr/>
              </p:nvSpPr>
              <p:spPr>
                <a:xfrm flipV="1">
                  <a:off x="4343400" y="365724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 rot="16200000">
                  <a:off x="4038840" y="3961800"/>
                  <a:ext cx="609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5764680" y="4051800"/>
                <a:ext cx="360" cy="214920"/>
                <a:chOff x="5764680" y="4051800"/>
                <a:chExt cx="360" cy="214920"/>
              </a:xfrm>
            </p:grpSpPr>
            <p:sp>
              <p:nvSpPr>
                <p:cNvPr id="607" name="直接连接符 115766"/>
                <p:cNvSpPr/>
                <p:nvPr/>
              </p:nvSpPr>
              <p:spPr>
                <a:xfrm flipV="1">
                  <a:off x="5764680" y="4051800"/>
                  <a:ext cx="0" cy="21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 txBox="1"/>
                <p:nvPr/>
              </p:nvSpPr>
              <p:spPr>
                <a:xfrm rot="16200000">
                  <a:off x="5657400" y="4159080"/>
                  <a:ext cx="21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5764680" y="3657240"/>
                <a:ext cx="360" cy="179280"/>
                <a:chOff x="5764680" y="3657240"/>
                <a:chExt cx="360" cy="179280"/>
              </a:xfrm>
            </p:grpSpPr>
            <p:sp>
              <p:nvSpPr>
                <p:cNvPr id="610" name="直接连接符 115767"/>
                <p:cNvSpPr/>
                <p:nvPr/>
              </p:nvSpPr>
              <p:spPr>
                <a:xfrm flipV="1">
                  <a:off x="5764680" y="3657240"/>
                  <a:ext cx="0" cy="1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 txBox="1"/>
                <p:nvPr/>
              </p:nvSpPr>
              <p:spPr>
                <a:xfrm rot="16200000">
                  <a:off x="5675040" y="3746520"/>
                  <a:ext cx="17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4343400" y="3656880"/>
                <a:ext cx="1421280" cy="360"/>
                <a:chOff x="4343400" y="3656880"/>
                <a:chExt cx="1421280" cy="360"/>
              </a:xfrm>
            </p:grpSpPr>
            <p:sp>
              <p:nvSpPr>
                <p:cNvPr id="613" name="直接连接符 115768"/>
                <p:cNvSpPr/>
                <p:nvPr/>
              </p:nvSpPr>
              <p:spPr>
                <a:xfrm>
                  <a:off x="4343400" y="3657240"/>
                  <a:ext cx="142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 txBox="1"/>
                <p:nvPr/>
              </p:nvSpPr>
              <p:spPr>
                <a:xfrm rot="16200000">
                  <a:off x="5053680" y="2946240"/>
                  <a:ext cx="360" cy="142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5" name=""/>
            <p:cNvGrpSpPr/>
            <p:nvPr/>
          </p:nvGrpSpPr>
          <p:grpSpPr>
            <a:xfrm>
              <a:off x="5765400" y="4051440"/>
              <a:ext cx="405720" cy="360"/>
              <a:chOff x="5765400" y="4051440"/>
              <a:chExt cx="405720" cy="360"/>
            </a:xfrm>
          </p:grpSpPr>
          <p:sp>
            <p:nvSpPr>
              <p:cNvPr id="616" name="直接连接符 115769"/>
              <p:cNvSpPr/>
              <p:nvPr/>
            </p:nvSpPr>
            <p:spPr>
              <a:xfrm>
                <a:off x="5765400" y="4051800"/>
                <a:ext cx="4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 rot="16200000">
                <a:off x="5968080" y="3848760"/>
                <a:ext cx="360" cy="40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765400" y="3836160"/>
              <a:ext cx="405720" cy="360"/>
              <a:chOff x="5765400" y="3836160"/>
              <a:chExt cx="405720" cy="360"/>
            </a:xfrm>
          </p:grpSpPr>
          <p:sp>
            <p:nvSpPr>
              <p:cNvPr id="619" name="直接连接符 115770"/>
              <p:cNvSpPr/>
              <p:nvPr/>
            </p:nvSpPr>
            <p:spPr>
              <a:xfrm>
                <a:off x="5765400" y="3836520"/>
                <a:ext cx="405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 rot="16200000">
                <a:off x="5968080" y="3633480"/>
                <a:ext cx="360" cy="405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1" name="文本框 115771"/>
          <p:cNvSpPr/>
          <p:nvPr/>
        </p:nvSpPr>
        <p:spPr>
          <a:xfrm>
            <a:off x="6477120" y="763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TV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115772"/>
          <p:cNvSpPr/>
          <p:nvPr/>
        </p:nvSpPr>
        <p:spPr>
          <a:xfrm>
            <a:off x="0" y="1905120"/>
            <a:ext cx="9144000" cy="5331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115773"/>
          <p:cNvSpPr/>
          <p:nvPr/>
        </p:nvSpPr>
        <p:spPr>
          <a:xfrm>
            <a:off x="0" y="4267080"/>
            <a:ext cx="9144000" cy="533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115774"/>
          <p:cNvSpPr/>
          <p:nvPr/>
        </p:nvSpPr>
        <p:spPr>
          <a:xfrm>
            <a:off x="2590920" y="0"/>
            <a:ext cx="533160" cy="685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15775"/>
          <p:cNvSpPr/>
          <p:nvPr/>
        </p:nvSpPr>
        <p:spPr>
          <a:xfrm>
            <a:off x="5867280" y="0"/>
            <a:ext cx="533520" cy="685800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15776"/>
          <p:cNvSpPr/>
          <p:nvPr/>
        </p:nvSpPr>
        <p:spPr>
          <a:xfrm>
            <a:off x="152280" y="1219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Air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15777"/>
          <p:cNvSpPr/>
          <p:nvPr/>
        </p:nvSpPr>
        <p:spPr>
          <a:xfrm>
            <a:off x="4800600" y="304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Fire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115778"/>
          <p:cNvSpPr/>
          <p:nvPr/>
        </p:nvSpPr>
        <p:spPr>
          <a:xfrm>
            <a:off x="4419720" y="2743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os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115779"/>
          <p:cNvSpPr/>
          <p:nvPr/>
        </p:nvSpPr>
        <p:spPr>
          <a:xfrm>
            <a:off x="3200400" y="37339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115780"/>
          <p:cNvSpPr/>
          <p:nvPr/>
        </p:nvSpPr>
        <p:spPr>
          <a:xfrm>
            <a:off x="4343400" y="3733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B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115781"/>
          <p:cNvSpPr/>
          <p:nvPr/>
        </p:nvSpPr>
        <p:spPr>
          <a:xfrm>
            <a:off x="66294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115782"/>
          <p:cNvSpPr/>
          <p:nvPr/>
        </p:nvSpPr>
        <p:spPr>
          <a:xfrm>
            <a:off x="1295280" y="3505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Chinese 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115783"/>
          <p:cNvSpPr/>
          <p:nvPr/>
        </p:nvSpPr>
        <p:spPr>
          <a:xfrm>
            <a:off x="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Super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115784"/>
          <p:cNvSpPr/>
          <p:nvPr/>
        </p:nvSpPr>
        <p:spPr>
          <a:xfrm>
            <a:off x="16002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P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115785"/>
          <p:cNvSpPr/>
          <p:nvPr/>
        </p:nvSpPr>
        <p:spPr>
          <a:xfrm>
            <a:off x="32767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115786"/>
          <p:cNvSpPr/>
          <p:nvPr/>
        </p:nvSpPr>
        <p:spPr>
          <a:xfrm>
            <a:off x="4191120" y="4968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宋体"/>
              </a:rPr>
              <a:t>Department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115787"/>
          <p:cNvSpPr/>
          <p:nvPr/>
        </p:nvSpPr>
        <p:spPr>
          <a:xfrm>
            <a:off x="2743200" y="609480"/>
            <a:ext cx="30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宋体"/>
              </a:rPr>
              <a:t>ParkStre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115788"/>
          <p:cNvSpPr/>
          <p:nvPr/>
        </p:nvSpPr>
        <p:spPr>
          <a:xfrm>
            <a:off x="5943600" y="609480"/>
            <a:ext cx="30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  <a:ea typeface="宋体"/>
              </a:rPr>
              <a:t>RiverStre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椭圆 115789"/>
          <p:cNvSpPr/>
          <p:nvPr/>
        </p:nvSpPr>
        <p:spPr>
          <a:xfrm flipV="1">
            <a:off x="8229600" y="2056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椭圆 115790"/>
          <p:cNvSpPr/>
          <p:nvPr/>
        </p:nvSpPr>
        <p:spPr>
          <a:xfrm flipV="1">
            <a:off x="6781680" y="2056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椭圆 115791"/>
          <p:cNvSpPr/>
          <p:nvPr/>
        </p:nvSpPr>
        <p:spPr>
          <a:xfrm flipV="1">
            <a:off x="5105520" y="205668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椭圆 115792"/>
          <p:cNvSpPr/>
          <p:nvPr/>
        </p:nvSpPr>
        <p:spPr>
          <a:xfrm flipV="1">
            <a:off x="3505320" y="2056680"/>
            <a:ext cx="3045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椭圆 115793"/>
          <p:cNvSpPr/>
          <p:nvPr/>
        </p:nvSpPr>
        <p:spPr>
          <a:xfrm flipV="1">
            <a:off x="2743200" y="2056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椭圆 115794"/>
          <p:cNvSpPr/>
          <p:nvPr/>
        </p:nvSpPr>
        <p:spPr>
          <a:xfrm flipV="1">
            <a:off x="2666880" y="312336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115795"/>
          <p:cNvSpPr/>
          <p:nvPr/>
        </p:nvSpPr>
        <p:spPr>
          <a:xfrm flipV="1">
            <a:off x="2514600" y="4419720"/>
            <a:ext cx="304920" cy="30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115796"/>
          <p:cNvSpPr/>
          <p:nvPr/>
        </p:nvSpPr>
        <p:spPr>
          <a:xfrm flipV="1">
            <a:off x="380880" y="4342680"/>
            <a:ext cx="30492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5797"/>
          <p:cNvGrpSpPr/>
          <p:nvPr/>
        </p:nvGrpSpPr>
        <p:grpSpPr>
          <a:xfrm>
            <a:off x="685800" y="2133720"/>
            <a:ext cx="8458200" cy="2666880"/>
            <a:chOff x="685800" y="2133720"/>
            <a:chExt cx="8458200" cy="2666880"/>
          </a:xfrm>
        </p:grpSpPr>
        <p:grpSp>
          <p:nvGrpSpPr>
            <p:cNvPr id="648" name=""/>
            <p:cNvGrpSpPr/>
            <p:nvPr/>
          </p:nvGrpSpPr>
          <p:grpSpPr>
            <a:xfrm>
              <a:off x="2819160" y="2133720"/>
              <a:ext cx="6324840" cy="360"/>
              <a:chOff x="2819160" y="2133720"/>
              <a:chExt cx="6324840" cy="360"/>
            </a:xfrm>
          </p:grpSpPr>
          <p:sp>
            <p:nvSpPr>
              <p:cNvPr id="649" name="直接连接符 115798"/>
              <p:cNvSpPr/>
              <p:nvPr/>
            </p:nvSpPr>
            <p:spPr>
              <a:xfrm>
                <a:off x="2819160" y="2133720"/>
                <a:ext cx="632484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2819160" y="2133720"/>
                <a:ext cx="632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2819160" y="2133720"/>
              <a:ext cx="360" cy="2246040"/>
              <a:chOff x="2819160" y="2133720"/>
              <a:chExt cx="360" cy="2246040"/>
            </a:xfrm>
          </p:grpSpPr>
          <p:sp>
            <p:nvSpPr>
              <p:cNvPr id="652" name="直接连接符 115799"/>
              <p:cNvSpPr/>
              <p:nvPr/>
            </p:nvSpPr>
            <p:spPr>
              <a:xfrm>
                <a:off x="2819160" y="2133720"/>
                <a:ext cx="0" cy="224604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2819160" y="2133720"/>
                <a:ext cx="360" cy="224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685800" y="4379400"/>
              <a:ext cx="2133360" cy="360"/>
              <a:chOff x="685800" y="4379400"/>
              <a:chExt cx="2133360" cy="360"/>
            </a:xfrm>
          </p:grpSpPr>
          <p:sp>
            <p:nvSpPr>
              <p:cNvPr id="655" name="直接连接符 115800"/>
              <p:cNvSpPr/>
              <p:nvPr/>
            </p:nvSpPr>
            <p:spPr>
              <a:xfrm flipH="1">
                <a:off x="685800" y="4379760"/>
                <a:ext cx="213336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 rot="10800000">
                <a:off x="685800" y="4379400"/>
                <a:ext cx="2133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85800" y="4379760"/>
              <a:ext cx="360" cy="420840"/>
              <a:chOff x="685800" y="4379760"/>
              <a:chExt cx="360" cy="420840"/>
            </a:xfrm>
          </p:grpSpPr>
          <p:sp>
            <p:nvSpPr>
              <p:cNvPr id="658" name="直接连接符 115801"/>
              <p:cNvSpPr/>
              <p:nvPr/>
            </p:nvSpPr>
            <p:spPr>
              <a:xfrm>
                <a:off x="685800" y="4379760"/>
                <a:ext cx="0" cy="420840"/>
              </a:xfrm>
              <a:prstGeom prst="line">
                <a:avLst/>
              </a:prstGeom>
              <a:ln w="5724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685800" y="4379760"/>
                <a:ext cx="360" cy="42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矩形 115802"/>
          <p:cNvSpPr/>
          <p:nvPr/>
        </p:nvSpPr>
        <p:spPr>
          <a:xfrm>
            <a:off x="2438280" y="6095880"/>
            <a:ext cx="152640" cy="457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矩形 115803"/>
          <p:cNvSpPr/>
          <p:nvPr/>
        </p:nvSpPr>
        <p:spPr>
          <a:xfrm rot="16200000">
            <a:off x="5562360" y="609480"/>
            <a:ext cx="457200" cy="152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15804"/>
          <p:cNvSpPr/>
          <p:nvPr/>
        </p:nvSpPr>
        <p:spPr>
          <a:xfrm>
            <a:off x="3124080" y="5638680"/>
            <a:ext cx="152640" cy="1526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15805"/>
          <p:cNvSpPr/>
          <p:nvPr/>
        </p:nvSpPr>
        <p:spPr>
          <a:xfrm>
            <a:off x="76960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15806"/>
          <p:cNvSpPr/>
          <p:nvPr/>
        </p:nvSpPr>
        <p:spPr>
          <a:xfrm>
            <a:off x="7696080" y="1371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5807"/>
          <p:cNvSpPr/>
          <p:nvPr/>
        </p:nvSpPr>
        <p:spPr>
          <a:xfrm>
            <a:off x="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Super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15808"/>
          <p:cNvSpPr/>
          <p:nvPr/>
        </p:nvSpPr>
        <p:spPr>
          <a:xfrm>
            <a:off x="0" y="4876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宋体"/>
              </a:rPr>
              <a:t>Super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5"/>
                            </p:stCondLst>
                            <p:childTnLst>
                              <p:par>
                                <p:cTn id="321" dur="indefinite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文本框 36867"/>
          <p:cNvSpPr/>
          <p:nvPr/>
        </p:nvSpPr>
        <p:spPr>
          <a:xfrm>
            <a:off x="0" y="1828800"/>
            <a:ext cx="6642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沿着这条街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右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在第二个十字路口向左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矩形 36868"/>
          <p:cNvSpPr txBox="1"/>
          <p:nvPr/>
        </p:nvSpPr>
        <p:spPr>
          <a:xfrm>
            <a:off x="228600" y="0"/>
            <a:ext cx="4267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hrases: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0" name="文本框 36869"/>
          <p:cNvSpPr/>
          <p:nvPr/>
        </p:nvSpPr>
        <p:spPr>
          <a:xfrm>
            <a:off x="2819520" y="190512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go along this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36871"/>
          <p:cNvSpPr/>
          <p:nvPr/>
        </p:nvSpPr>
        <p:spPr>
          <a:xfrm>
            <a:off x="1295280" y="4343400"/>
            <a:ext cx="78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urn left at the second cro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36872"/>
          <p:cNvSpPr/>
          <p:nvPr/>
        </p:nvSpPr>
        <p:spPr>
          <a:xfrm>
            <a:off x="1828800" y="2819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on the 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文本框 33793"/>
          <p:cNvSpPr/>
          <p:nvPr/>
        </p:nvSpPr>
        <p:spPr>
          <a:xfrm>
            <a:off x="0" y="0"/>
            <a:ext cx="95360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 Excuse me. Is the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ot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near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 Yes, there 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 Where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he hot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/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ow can I get the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Go along the street and turn 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/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Go along this street and turn right at the first cross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and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n your 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/ It’s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Thank you very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--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33794"/>
          <p:cNvSpPr/>
          <p:nvPr/>
        </p:nvSpPr>
        <p:spPr>
          <a:xfrm>
            <a:off x="3809880" y="2895480"/>
            <a:ext cx="4864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hind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ext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etween … and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cross from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n front of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on Center Str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33795"/>
          <p:cNvSpPr/>
          <p:nvPr/>
        </p:nvSpPr>
        <p:spPr>
          <a:xfrm>
            <a:off x="7086600" y="4191120"/>
            <a:ext cx="13716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33796" descr="gif002"/>
          <p:cNvPicPr/>
          <p:nvPr/>
        </p:nvPicPr>
        <p:blipFill>
          <a:blip r:embed="rId1"/>
          <a:stretch/>
        </p:blipFill>
        <p:spPr>
          <a:xfrm>
            <a:off x="6400800" y="5029200"/>
            <a:ext cx="25909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3" descr=""/>
          <p:cNvPicPr/>
          <p:nvPr/>
        </p:nvPicPr>
        <p:blipFill>
          <a:blip r:embed="rId1"/>
          <a:stretch/>
        </p:blipFill>
        <p:spPr>
          <a:xfrm>
            <a:off x="2438280" y="1866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"/>
          <p:cNvPicPr/>
          <p:nvPr/>
        </p:nvPicPr>
        <p:blipFill>
          <a:blip r:embed="rId2"/>
          <a:stretch/>
        </p:blipFill>
        <p:spPr>
          <a:xfrm>
            <a:off x="2590920" y="2019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"/>
          <p:cNvPicPr/>
          <p:nvPr/>
        </p:nvPicPr>
        <p:blipFill>
          <a:blip r:embed="rId3"/>
          <a:stretch/>
        </p:blipFill>
        <p:spPr>
          <a:xfrm>
            <a:off x="2743200" y="2171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"/>
          <p:cNvPicPr/>
          <p:nvPr/>
        </p:nvPicPr>
        <p:blipFill>
          <a:blip r:embed="rId4"/>
          <a:stretch/>
        </p:blipFill>
        <p:spPr>
          <a:xfrm>
            <a:off x="2895480" y="23241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8"/>
          <p:cNvSpPr/>
          <p:nvPr/>
        </p:nvSpPr>
        <p:spPr>
          <a:xfrm>
            <a:off x="0" y="47520"/>
            <a:ext cx="9144000" cy="77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假如你是一位警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P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你会为外国游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V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处去旅馆的路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: Excuse me.________________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: Yes, there is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: Where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: It’s 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: How can I get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: Go along this street, _______when you see a bank. Walk along Bridge Street, and you can find it ____________.It’s __________ New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: ___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es. You can ta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.16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: Thank yo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: You’re wel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5369"/>
          <p:cNvSpPr/>
          <p:nvPr/>
        </p:nvSpPr>
        <p:spPr>
          <a:xfrm>
            <a:off x="274320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Is there a  hotel near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Group 19"/>
          <p:cNvGrpSpPr/>
          <p:nvPr/>
        </p:nvGrpSpPr>
        <p:grpSpPr>
          <a:xfrm>
            <a:off x="3645000" y="4416480"/>
            <a:ext cx="5635440" cy="2201760"/>
            <a:chOff x="3645000" y="4416480"/>
            <a:chExt cx="5635440" cy="2201760"/>
          </a:xfrm>
        </p:grpSpPr>
        <p:sp>
          <p:nvSpPr>
            <p:cNvPr id="684" name="AutoShape 20"/>
            <p:cNvSpPr/>
            <p:nvPr/>
          </p:nvSpPr>
          <p:spPr>
            <a:xfrm>
              <a:off x="3645000" y="4416480"/>
              <a:ext cx="5635440" cy="22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>
              <a:off x="3779280" y="4545360"/>
              <a:ext cx="5106960" cy="205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3779280" y="4545360"/>
              <a:ext cx="720" cy="1680480"/>
              <a:chOff x="3779280" y="4545360"/>
              <a:chExt cx="720" cy="1680480"/>
            </a:xfrm>
          </p:grpSpPr>
          <p:sp>
            <p:nvSpPr>
              <p:cNvPr id="687" name="Line 22"/>
              <p:cNvSpPr/>
              <p:nvPr/>
            </p:nvSpPr>
            <p:spPr>
              <a:xfrm>
                <a:off x="3779280" y="4545360"/>
                <a:ext cx="720" cy="168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3779280" y="4545360"/>
                <a:ext cx="720" cy="168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779280" y="6225840"/>
              <a:ext cx="5106960" cy="720"/>
              <a:chOff x="3779280" y="6225840"/>
              <a:chExt cx="5106960" cy="720"/>
            </a:xfrm>
          </p:grpSpPr>
          <p:sp>
            <p:nvSpPr>
              <p:cNvPr id="690" name="Line 23"/>
              <p:cNvSpPr/>
              <p:nvPr/>
            </p:nvSpPr>
            <p:spPr>
              <a:xfrm>
                <a:off x="3779280" y="6225840"/>
                <a:ext cx="5106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3779280" y="6225840"/>
                <a:ext cx="51069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4603680" y="4545360"/>
              <a:ext cx="360" cy="1027080"/>
              <a:chOff x="4603680" y="4545360"/>
              <a:chExt cx="360" cy="1027080"/>
            </a:xfrm>
          </p:grpSpPr>
          <p:sp>
            <p:nvSpPr>
              <p:cNvPr id="693" name="Line 24"/>
              <p:cNvSpPr/>
              <p:nvPr/>
            </p:nvSpPr>
            <p:spPr>
              <a:xfrm>
                <a:off x="4603680" y="4545360"/>
                <a:ext cx="0" cy="102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4603680" y="4545360"/>
                <a:ext cx="360" cy="102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603680" y="5572800"/>
              <a:ext cx="4282920" cy="360"/>
              <a:chOff x="4603680" y="5572800"/>
              <a:chExt cx="4282920" cy="360"/>
            </a:xfrm>
          </p:grpSpPr>
          <p:sp>
            <p:nvSpPr>
              <p:cNvPr id="696" name="Line 25"/>
              <p:cNvSpPr/>
              <p:nvPr/>
            </p:nvSpPr>
            <p:spPr>
              <a:xfrm>
                <a:off x="4603680" y="5572800"/>
                <a:ext cx="428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4603680" y="5572800"/>
                <a:ext cx="428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26"/>
            <p:cNvSpPr/>
            <p:nvPr/>
          </p:nvSpPr>
          <p:spPr>
            <a:xfrm>
              <a:off x="7543440" y="6171840"/>
              <a:ext cx="1152360" cy="37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t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27"/>
            <p:cNvSpPr/>
            <p:nvPr/>
          </p:nvSpPr>
          <p:spPr>
            <a:xfrm>
              <a:off x="4603680" y="5105520"/>
              <a:ext cx="197640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an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28"/>
            <p:cNvSpPr/>
            <p:nvPr/>
          </p:nvSpPr>
          <p:spPr>
            <a:xfrm>
              <a:off x="7011000" y="5105520"/>
              <a:ext cx="1835280" cy="4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8880" bIns="388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ew Par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 Box 29"/>
          <p:cNvSpPr/>
          <p:nvPr/>
        </p:nvSpPr>
        <p:spPr>
          <a:xfrm>
            <a:off x="4800600" y="56386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Bridge     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15403"/>
          <p:cNvSpPr/>
          <p:nvPr/>
        </p:nvSpPr>
        <p:spPr>
          <a:xfrm>
            <a:off x="1219320" y="1828800"/>
            <a:ext cx="414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n Bridge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15404"/>
          <p:cNvSpPr/>
          <p:nvPr/>
        </p:nvSpPr>
        <p:spPr>
          <a:xfrm>
            <a:off x="4419720" y="2819520"/>
            <a:ext cx="21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urn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15405"/>
          <p:cNvSpPr/>
          <p:nvPr/>
        </p:nvSpPr>
        <p:spPr>
          <a:xfrm>
            <a:off x="1066680" y="380988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on your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15406"/>
          <p:cNvSpPr/>
          <p:nvPr/>
        </p:nvSpPr>
        <p:spPr>
          <a:xfrm>
            <a:off x="4648320" y="3809880"/>
            <a:ext cx="31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acros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15407"/>
          <p:cNvSpPr/>
          <p:nvPr/>
        </p:nvSpPr>
        <p:spPr>
          <a:xfrm>
            <a:off x="380880" y="4343400"/>
            <a:ext cx="40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an I take a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267080" y="4800600"/>
            <a:ext cx="360" cy="1143000"/>
            <a:chOff x="4267080" y="4800600"/>
            <a:chExt cx="360" cy="1143000"/>
          </a:xfrm>
        </p:grpSpPr>
        <p:sp>
          <p:nvSpPr>
            <p:cNvPr id="708" name="直接连接符 15409"/>
            <p:cNvSpPr/>
            <p:nvPr/>
          </p:nvSpPr>
          <p:spPr>
            <a:xfrm>
              <a:off x="4267080" y="4800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4267080" y="480060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6242495_211056022305_2"/>
          <p:cNvPicPr/>
          <p:nvPr/>
        </p:nvPicPr>
        <p:blipFill>
          <a:blip r:embed="rId1"/>
          <a:stretch/>
        </p:blipFill>
        <p:spPr>
          <a:xfrm>
            <a:off x="-1522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4191120" y="2590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ank you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6095520"/>
            <a:ext cx="53341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65000"/>
          </a:bodyPr>
          <a:p>
            <a:pPr marL="222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there is.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xt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police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762120" y="5638680"/>
            <a:ext cx="504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 there a hospital near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20160" cy="54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1"/>
          <p:cNvSpPr/>
          <p:nvPr/>
        </p:nvSpPr>
        <p:spPr>
          <a:xfrm>
            <a:off x="990720" y="2057400"/>
            <a:ext cx="78120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医院的对面有饭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旅店在警察局的前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桌子上没有水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北方的冬天很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"/>
          <p:cNvSpPr/>
          <p:nvPr/>
        </p:nvSpPr>
        <p:spPr>
          <a:xfrm>
            <a:off x="2328840" y="603360"/>
            <a:ext cx="43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Revis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zhiqi_03"/>
          <p:cNvPicPr/>
          <p:nvPr/>
        </p:nvPicPr>
        <p:blipFill>
          <a:blip r:embed="rId1"/>
          <a:stretch/>
        </p:blipFill>
        <p:spPr>
          <a:xfrm>
            <a:off x="6877080" y="1066680"/>
            <a:ext cx="1776240" cy="1538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u=104581468,3083808105&amp;gp=2"/>
          <p:cNvPicPr/>
          <p:nvPr/>
        </p:nvPicPr>
        <p:blipFill>
          <a:blip r:embed="rId2"/>
          <a:stretch/>
        </p:blipFill>
        <p:spPr>
          <a:xfrm>
            <a:off x="755640" y="1128600"/>
            <a:ext cx="1770120" cy="162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u=1796817051,3917900641&amp;gp=0"/>
          <p:cNvPicPr/>
          <p:nvPr/>
        </p:nvPicPr>
        <p:blipFill>
          <a:blip r:embed="rId3"/>
          <a:stretch/>
        </p:blipFill>
        <p:spPr>
          <a:xfrm>
            <a:off x="3851280" y="1084320"/>
            <a:ext cx="1706400" cy="1582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324000" y="278136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go al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480000" y="2819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urn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564000" y="28036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urn l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42920" y="3860640"/>
          <a:ext cx="2519280" cy="1654200"/>
        </p:xfrm>
        <a:graphic>
          <a:graphicData uri="http://schemas.openxmlformats.org/drawingml/2006/table">
            <a:tbl>
              <a:tblPr/>
              <a:tblGrid>
                <a:gridCol w="792000"/>
                <a:gridCol w="928800"/>
                <a:gridCol w="798480"/>
              </a:tblGrid>
              <a:tr h="1654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fe9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fe9eb"/>
                    </a:solidFill>
                  </a:tcPr>
                </a:tc>
              </a:tr>
            </a:tbl>
          </a:graphicData>
        </a:graphic>
      </p:graphicFrame>
      <p:sp>
        <p:nvSpPr>
          <p:cNvPr id="185" name="Oval 18"/>
          <p:cNvSpPr/>
          <p:nvPr/>
        </p:nvSpPr>
        <p:spPr>
          <a:xfrm>
            <a:off x="1114560" y="4149720"/>
            <a:ext cx="57600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076720" y="3860640"/>
          <a:ext cx="2736720" cy="1655640"/>
        </p:xfrm>
        <a:graphic>
          <a:graphicData uri="http://schemas.openxmlformats.org/drawingml/2006/table">
            <a:tbl>
              <a:tblPr/>
              <a:tblGrid>
                <a:gridCol w="790560"/>
                <a:gridCol w="1227240"/>
                <a:gridCol w="718920"/>
              </a:tblGrid>
              <a:tr h="16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fe9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fe9eb"/>
                    </a:solidFill>
                  </a:tcPr>
                </a:tc>
              </a:tr>
            </a:tbl>
          </a:graphicData>
        </a:graphic>
      </p:graphicFrame>
      <p:sp>
        <p:nvSpPr>
          <p:cNvPr id="187" name="Oval 29"/>
          <p:cNvSpPr/>
          <p:nvPr/>
        </p:nvSpPr>
        <p:spPr>
          <a:xfrm>
            <a:off x="7165800" y="4149720"/>
            <a:ext cx="576360" cy="1071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539640" y="5589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n the l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4788000" y="5661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n the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2"/>
          <p:cNvSpPr/>
          <p:nvPr/>
        </p:nvSpPr>
        <p:spPr>
          <a:xfrm>
            <a:off x="2057400" y="0"/>
            <a:ext cx="468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黑体"/>
              </a:rPr>
              <a:t>交通标志知多少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u=2186032177,1694954644&amp;gp=0"/>
          <p:cNvPicPr/>
          <p:nvPr/>
        </p:nvPicPr>
        <p:blipFill>
          <a:blip r:embed="rId1"/>
          <a:stretch/>
        </p:blipFill>
        <p:spPr>
          <a:xfrm>
            <a:off x="684360" y="1125360"/>
            <a:ext cx="2041200" cy="295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040903sign1"/>
          <p:cNvPicPr/>
          <p:nvPr/>
        </p:nvPicPr>
        <p:blipFill>
          <a:blip r:embed="rId2"/>
          <a:stretch/>
        </p:blipFill>
        <p:spPr>
          <a:xfrm>
            <a:off x="3708360" y="1628640"/>
            <a:ext cx="1943280" cy="2376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=1139537260,1465753425&amp;gp=2"/>
          <p:cNvPicPr/>
          <p:nvPr/>
        </p:nvPicPr>
        <p:blipFill>
          <a:blip r:embed="rId3"/>
          <a:stretch/>
        </p:blipFill>
        <p:spPr>
          <a:xfrm>
            <a:off x="6227640" y="1413000"/>
            <a:ext cx="2087640" cy="280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403200" y="4876920"/>
            <a:ext cx="330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on't  turn right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248520" y="4952880"/>
            <a:ext cx="2268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No wal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图片1-2"/>
          <p:cNvPicPr/>
          <p:nvPr/>
        </p:nvPicPr>
        <p:blipFill>
          <a:blip r:embed="rId1"/>
          <a:stretch/>
        </p:blipFill>
        <p:spPr>
          <a:xfrm>
            <a:off x="1828800" y="533520"/>
            <a:ext cx="4824360" cy="450036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3"/>
          <p:cNvSpPr/>
          <p:nvPr/>
        </p:nvSpPr>
        <p:spPr>
          <a:xfrm rot="2188800">
            <a:off x="3009600" y="3087720"/>
            <a:ext cx="863640" cy="1440000"/>
          </a:xfrm>
          <a:prstGeom prst="upArrow">
            <a:avLst>
              <a:gd name="adj1" fmla="val 50000"/>
              <a:gd name="adj2" fmla="val 4166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 rot="18073200">
            <a:off x="3428280" y="2008800"/>
            <a:ext cx="64764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 rot="1683000">
            <a:off x="4581360" y="2344680"/>
            <a:ext cx="792360" cy="88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8120" y="4572000"/>
            <a:ext cx="360" cy="1511280"/>
            <a:chOff x="3048120" y="4572000"/>
            <a:chExt cx="360" cy="1511280"/>
          </a:xfrm>
        </p:grpSpPr>
        <p:sp>
          <p:nvSpPr>
            <p:cNvPr id="202" name="Line 6"/>
            <p:cNvSpPr/>
            <p:nvPr/>
          </p:nvSpPr>
          <p:spPr>
            <a:xfrm>
              <a:off x="3048120" y="4572000"/>
              <a:ext cx="0" cy="1511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3048120" y="4572000"/>
              <a:ext cx="360" cy="15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7"/>
          <p:cNvSpPr/>
          <p:nvPr/>
        </p:nvSpPr>
        <p:spPr>
          <a:xfrm>
            <a:off x="1143000" y="5867280"/>
            <a:ext cx="60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go along the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447920" y="1981080"/>
            <a:ext cx="2039760" cy="462240"/>
            <a:chOff x="1447920" y="1981080"/>
            <a:chExt cx="2039760" cy="462240"/>
          </a:xfrm>
        </p:grpSpPr>
        <p:sp>
          <p:nvSpPr>
            <p:cNvPr id="206" name="Line 8"/>
            <p:cNvSpPr/>
            <p:nvPr/>
          </p:nvSpPr>
          <p:spPr>
            <a:xfrm flipH="1" flipV="1">
              <a:off x="1447920" y="1981080"/>
              <a:ext cx="2039760" cy="462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0800000">
              <a:off x="1447920" y="1981080"/>
              <a:ext cx="2039760" cy="46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9"/>
          <p:cNvSpPr/>
          <p:nvPr/>
        </p:nvSpPr>
        <p:spPr>
          <a:xfrm>
            <a:off x="1440" y="1219320"/>
            <a:ext cx="18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urn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62720" y="2819520"/>
            <a:ext cx="1465200" cy="779400"/>
            <a:chOff x="5562720" y="2819520"/>
            <a:chExt cx="1465200" cy="779400"/>
          </a:xfrm>
        </p:grpSpPr>
        <p:sp>
          <p:nvSpPr>
            <p:cNvPr id="210" name="Line 10"/>
            <p:cNvSpPr/>
            <p:nvPr/>
          </p:nvSpPr>
          <p:spPr>
            <a:xfrm>
              <a:off x="5562720" y="2819520"/>
              <a:ext cx="1465200" cy="779400"/>
            </a:xfrm>
            <a:prstGeom prst="line">
              <a:avLst/>
            </a:prstGeom>
            <a:ln w="349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5562720" y="2819520"/>
              <a:ext cx="1465200" cy="779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11"/>
          <p:cNvSpPr/>
          <p:nvPr/>
        </p:nvSpPr>
        <p:spPr>
          <a:xfrm>
            <a:off x="6705720" y="3809880"/>
            <a:ext cx="212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urn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152280" y="4191120"/>
            <a:ext cx="587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Go along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ridge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02920" y="1700280"/>
            <a:ext cx="5040720" cy="360"/>
            <a:chOff x="1402920" y="1700280"/>
            <a:chExt cx="5040720" cy="360"/>
          </a:xfrm>
        </p:grpSpPr>
        <p:sp>
          <p:nvSpPr>
            <p:cNvPr id="217" name="Line 4"/>
            <p:cNvSpPr/>
            <p:nvPr/>
          </p:nvSpPr>
          <p:spPr>
            <a:xfrm flipH="1">
              <a:off x="1402920" y="170028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1403280" y="170028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03280" y="3860280"/>
            <a:ext cx="5113440" cy="1800"/>
            <a:chOff x="1403280" y="3860280"/>
            <a:chExt cx="5113440" cy="1800"/>
          </a:xfrm>
        </p:grpSpPr>
        <p:sp>
          <p:nvSpPr>
            <p:cNvPr id="220" name="Line 5"/>
            <p:cNvSpPr/>
            <p:nvPr/>
          </p:nvSpPr>
          <p:spPr>
            <a:xfrm flipH="1" flipV="1">
              <a:off x="1403280" y="3860280"/>
              <a:ext cx="511344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 rot="10800000">
              <a:off x="1403280" y="3860280"/>
              <a:ext cx="511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7"/>
          <p:cNvSpPr/>
          <p:nvPr/>
        </p:nvSpPr>
        <p:spPr>
          <a:xfrm rot="5400000">
            <a:off x="1941120" y="2887560"/>
            <a:ext cx="504720" cy="1152360"/>
          </a:xfrm>
          <a:prstGeom prst="upArrow">
            <a:avLst>
              <a:gd name="adj1" fmla="val 50000"/>
              <a:gd name="adj2" fmla="val 57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79640" y="3500280"/>
            <a:ext cx="288720" cy="650880"/>
            <a:chOff x="1979640" y="3500280"/>
            <a:chExt cx="288720" cy="650880"/>
          </a:xfrm>
        </p:grpSpPr>
        <p:sp>
          <p:nvSpPr>
            <p:cNvPr id="224" name="Line 9"/>
            <p:cNvSpPr/>
            <p:nvPr/>
          </p:nvSpPr>
          <p:spPr>
            <a:xfrm>
              <a:off x="1979640" y="3500280"/>
              <a:ext cx="288720" cy="650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1979640" y="3500280"/>
              <a:ext cx="288720" cy="6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1"/>
          <p:cNvSpPr/>
          <p:nvPr/>
        </p:nvSpPr>
        <p:spPr>
          <a:xfrm>
            <a:off x="2885400" y="2349360"/>
            <a:ext cx="28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  <a:ea typeface="宋体"/>
              </a:rPr>
              <a:t>Bridge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443640" y="476280"/>
            <a:ext cx="360" cy="1224000"/>
            <a:chOff x="6443640" y="476280"/>
            <a:chExt cx="360" cy="1224000"/>
          </a:xfrm>
        </p:grpSpPr>
        <p:sp>
          <p:nvSpPr>
            <p:cNvPr id="228" name="Line 12"/>
            <p:cNvSpPr/>
            <p:nvPr/>
          </p:nvSpPr>
          <p:spPr>
            <a:xfrm>
              <a:off x="6443640" y="4762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443640" y="4762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516720" y="3860640"/>
            <a:ext cx="360" cy="1584360"/>
            <a:chOff x="6516720" y="3860640"/>
            <a:chExt cx="360" cy="1584360"/>
          </a:xfrm>
        </p:grpSpPr>
        <p:sp>
          <p:nvSpPr>
            <p:cNvPr id="231" name="Line 13"/>
            <p:cNvSpPr/>
            <p:nvPr/>
          </p:nvSpPr>
          <p:spPr>
            <a:xfrm>
              <a:off x="6516720" y="38606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516720" y="386064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812000" y="404640"/>
            <a:ext cx="360" cy="1295640"/>
            <a:chOff x="7812000" y="404640"/>
            <a:chExt cx="360" cy="1295640"/>
          </a:xfrm>
        </p:grpSpPr>
        <p:sp>
          <p:nvSpPr>
            <p:cNvPr id="234" name="Line 14"/>
            <p:cNvSpPr/>
            <p:nvPr/>
          </p:nvSpPr>
          <p:spPr>
            <a:xfrm>
              <a:off x="7812000" y="40464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7812000" y="404640"/>
              <a:ext cx="36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812000" y="1699920"/>
            <a:ext cx="1152720" cy="360"/>
            <a:chOff x="7812000" y="1699920"/>
            <a:chExt cx="1152720" cy="360"/>
          </a:xfrm>
        </p:grpSpPr>
        <p:sp>
          <p:nvSpPr>
            <p:cNvPr id="237" name="Line 15"/>
            <p:cNvSpPr/>
            <p:nvPr/>
          </p:nvSpPr>
          <p:spPr>
            <a:xfrm>
              <a:off x="7812000" y="17002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 rot="10800000">
              <a:off x="7812000" y="1699920"/>
              <a:ext cx="11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812000" y="3860640"/>
            <a:ext cx="360" cy="1513080"/>
            <a:chOff x="7812000" y="3860640"/>
            <a:chExt cx="360" cy="1513080"/>
          </a:xfrm>
        </p:grpSpPr>
        <p:sp>
          <p:nvSpPr>
            <p:cNvPr id="240" name="Line 16"/>
            <p:cNvSpPr/>
            <p:nvPr/>
          </p:nvSpPr>
          <p:spPr>
            <a:xfrm>
              <a:off x="7812000" y="386064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812000" y="3860640"/>
              <a:ext cx="360" cy="15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812000" y="3860640"/>
            <a:ext cx="1116000" cy="360"/>
            <a:chOff x="7812000" y="3860640"/>
            <a:chExt cx="1116000" cy="360"/>
          </a:xfrm>
        </p:grpSpPr>
        <p:sp>
          <p:nvSpPr>
            <p:cNvPr id="243" name="Line 17"/>
            <p:cNvSpPr/>
            <p:nvPr/>
          </p:nvSpPr>
          <p:spPr>
            <a:xfrm>
              <a:off x="7812000" y="3860640"/>
              <a:ext cx="1116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7812000" y="3860640"/>
              <a:ext cx="11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9"/>
          <p:cNvSpPr/>
          <p:nvPr/>
        </p:nvSpPr>
        <p:spPr>
          <a:xfrm>
            <a:off x="3200400" y="5562720"/>
            <a:ext cx="5291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turn r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 rot="5400000">
            <a:off x="5759640" y="2960640"/>
            <a:ext cx="1512720" cy="1728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858920" y="3645000"/>
            <a:ext cx="1800720" cy="1944720"/>
            <a:chOff x="4858920" y="3645000"/>
            <a:chExt cx="1800720" cy="1944720"/>
          </a:xfrm>
        </p:grpSpPr>
        <p:sp>
          <p:nvSpPr>
            <p:cNvPr id="248" name="Line 21"/>
            <p:cNvSpPr/>
            <p:nvPr/>
          </p:nvSpPr>
          <p:spPr>
            <a:xfrm flipH="1">
              <a:off x="4858920" y="3645000"/>
              <a:ext cx="1800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859280" y="3645000"/>
              <a:ext cx="1800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WordArt 18"/>
          <p:cNvSpPr txBox="1"/>
          <p:nvPr/>
        </p:nvSpPr>
        <p:spPr>
          <a:xfrm rot="5400000">
            <a:off x="4932000" y="2674800"/>
            <a:ext cx="468000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latin typeface="Times New Roman"/>
              </a:rPr>
              <a:t>_____  _____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  <p:pic>
        <p:nvPicPr>
          <p:cNvPr id="251" name="Picture 22" descr="C:\Users\ysoh\AppData\Local\Microsoft\Windows\Temporary Internet Files\Content.IE5\W8IWHFR0\MP900442243[1].jpg"/>
          <p:cNvPicPr/>
          <p:nvPr/>
        </p:nvPicPr>
        <p:blipFill>
          <a:blip r:embed="rId1"/>
          <a:stretch/>
        </p:blipFill>
        <p:spPr>
          <a:xfrm>
            <a:off x="127080" y="1741320"/>
            <a:ext cx="139680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北街医院"/>
          <p:cNvPicPr/>
          <p:nvPr/>
        </p:nvPicPr>
        <p:blipFill>
          <a:blip r:embed="rId1"/>
          <a:stretch/>
        </p:blipFill>
        <p:spPr>
          <a:xfrm>
            <a:off x="1295280" y="838080"/>
            <a:ext cx="5688000" cy="3672000"/>
          </a:xfrm>
          <a:prstGeom prst="rect">
            <a:avLst/>
          </a:prstGeom>
          <a:ln w="0">
            <a:noFill/>
          </a:ln>
        </p:spPr>
      </p:pic>
      <p:grpSp>
        <p:nvGrpSpPr>
          <p:cNvPr id="254" name=""/>
          <p:cNvGrpSpPr/>
          <p:nvPr/>
        </p:nvGrpSpPr>
        <p:grpSpPr>
          <a:xfrm>
            <a:off x="2771640" y="2708280"/>
            <a:ext cx="2210040" cy="360"/>
            <a:chOff x="2771640" y="2708280"/>
            <a:chExt cx="2210040" cy="360"/>
          </a:xfrm>
        </p:grpSpPr>
        <p:sp>
          <p:nvSpPr>
            <p:cNvPr id="255" name="Line 4"/>
            <p:cNvSpPr/>
            <p:nvPr/>
          </p:nvSpPr>
          <p:spPr>
            <a:xfrm>
              <a:off x="2771640" y="2708280"/>
              <a:ext cx="221004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771640" y="2708280"/>
              <a:ext cx="221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52520" y="2730600"/>
            <a:ext cx="360" cy="914400"/>
            <a:chOff x="4952520" y="2730600"/>
            <a:chExt cx="360" cy="914400"/>
          </a:xfrm>
        </p:grpSpPr>
        <p:sp>
          <p:nvSpPr>
            <p:cNvPr id="258" name="Line 5"/>
            <p:cNvSpPr/>
            <p:nvPr/>
          </p:nvSpPr>
          <p:spPr>
            <a:xfrm flipV="1">
              <a:off x="4952880" y="2730600"/>
              <a:ext cx="0" cy="91440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 rot="10800000">
              <a:off x="4952520" y="273060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2000" y="3573360"/>
            <a:ext cx="380880" cy="360"/>
            <a:chOff x="4572000" y="3573360"/>
            <a:chExt cx="380880" cy="360"/>
          </a:xfrm>
        </p:grpSpPr>
        <p:sp>
          <p:nvSpPr>
            <p:cNvPr id="261" name="Line 6"/>
            <p:cNvSpPr/>
            <p:nvPr/>
          </p:nvSpPr>
          <p:spPr>
            <a:xfrm>
              <a:off x="4572000" y="3573360"/>
              <a:ext cx="3808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572000" y="357336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7"/>
          <p:cNvSpPr/>
          <p:nvPr/>
        </p:nvSpPr>
        <p:spPr>
          <a:xfrm>
            <a:off x="380880" y="52578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B: Yes, there i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Go alo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this street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turn 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on the 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4497840" y="1295280"/>
            <a:ext cx="6678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enter   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380880" y="4627440"/>
            <a:ext cx="76964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: Excuse me. Is there a hospital near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736440" y="2971800"/>
            <a:ext cx="60696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6172200" y="579132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48320" y="2438280"/>
            <a:ext cx="380880" cy="360"/>
            <a:chOff x="4648320" y="2438280"/>
            <a:chExt cx="380880" cy="360"/>
          </a:xfrm>
        </p:grpSpPr>
        <p:sp>
          <p:nvSpPr>
            <p:cNvPr id="269" name="Line 6"/>
            <p:cNvSpPr/>
            <p:nvPr/>
          </p:nvSpPr>
          <p:spPr>
            <a:xfrm>
              <a:off x="4648320" y="2438280"/>
              <a:ext cx="3808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648320" y="24382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7"/>
          <p:cNvSpPr/>
          <p:nvPr/>
        </p:nvSpPr>
        <p:spPr>
          <a:xfrm>
            <a:off x="0" y="4952880"/>
            <a:ext cx="912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B: Yes, there is.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Go alo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Bridge Stree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turn lef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The hotel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on the left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It’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acro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 Unicode MS"/>
              </a:rPr>
              <a:t>fr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the ba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4195080" y="1676520"/>
            <a:ext cx="45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148360" y="2997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ridge 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5257800" y="1676520"/>
            <a:ext cx="457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北街医院"/>
          <p:cNvPicPr/>
          <p:nvPr/>
        </p:nvPicPr>
        <p:blipFill>
          <a:blip r:embed="rId1"/>
          <a:stretch/>
        </p:blipFill>
        <p:spPr>
          <a:xfrm>
            <a:off x="1600200" y="1112760"/>
            <a:ext cx="5330880" cy="32529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971800" y="2819520"/>
            <a:ext cx="2009880" cy="360"/>
            <a:chOff x="2971800" y="2819520"/>
            <a:chExt cx="2009880" cy="360"/>
          </a:xfrm>
        </p:grpSpPr>
        <p:sp>
          <p:nvSpPr>
            <p:cNvPr id="277" name="Line 4"/>
            <p:cNvSpPr/>
            <p:nvPr/>
          </p:nvSpPr>
          <p:spPr>
            <a:xfrm>
              <a:off x="2971800" y="2819520"/>
              <a:ext cx="20098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71800" y="2819520"/>
              <a:ext cx="2009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028840" y="1994040"/>
            <a:ext cx="360" cy="914400"/>
            <a:chOff x="5028840" y="1994040"/>
            <a:chExt cx="360" cy="914400"/>
          </a:xfrm>
        </p:grpSpPr>
        <p:sp>
          <p:nvSpPr>
            <p:cNvPr id="280" name="Line 5"/>
            <p:cNvSpPr/>
            <p:nvPr/>
          </p:nvSpPr>
          <p:spPr>
            <a:xfrm flipV="1">
              <a:off x="5029200" y="1994040"/>
              <a:ext cx="0" cy="91440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5028840" y="199404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12"/>
          <p:cNvSpPr/>
          <p:nvPr/>
        </p:nvSpPr>
        <p:spPr>
          <a:xfrm>
            <a:off x="5412600" y="1254240"/>
            <a:ext cx="454680" cy="11080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0" y="4419720"/>
            <a:ext cx="854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: Excuse me. Is there a hotel near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041360" y="1219320"/>
            <a:ext cx="606960" cy="108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574160" y="1143000"/>
            <a:ext cx="66780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ridge  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Text Box 8" descr=""/>
          <p:cNvPicPr/>
          <p:nvPr/>
        </p:nvPicPr>
        <p:blipFill>
          <a:blip r:embed="rId2"/>
          <a:stretch/>
        </p:blipFill>
        <p:spPr>
          <a:xfrm>
            <a:off x="5181480" y="1219320"/>
            <a:ext cx="609840" cy="10429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2"/>
          <p:cNvSpPr/>
          <p:nvPr/>
        </p:nvSpPr>
        <p:spPr>
          <a:xfrm>
            <a:off x="3888720" y="2895480"/>
            <a:ext cx="606960" cy="16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46:40Z</dcterms:created>
  <dc:creator/>
  <dc:description/>
  <dc:language>en-US</dc:language>
  <cp:lastModifiedBy>Administrator</cp:lastModifiedBy>
  <dcterms:modified xsi:type="dcterms:W3CDTF">2016-05-13T00:04:39Z</dcterms:modified>
  <cp:revision>30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